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66002"/>
        <c:axId val="5450879"/>
      </c:barChart>
      <c:catAx>
        <c:axId val="92266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0879"/>
        <c:crosses val="autoZero"/>
        <c:auto val="1"/>
        <c:lblAlgn val="ctr"/>
        <c:lblOffset val="100"/>
        <c:noMultiLvlLbl val="0"/>
      </c:catAx>
      <c:valAx>
        <c:axId val="5450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6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F4C-6BC7-4865-9693-67D8FC9D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E90-C1C7-4A3D-8127-24880F04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21A-5F56-4C62-A7F5-9682D232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7E5-9B5B-403D-B7A4-49AA729B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FA1-7E5E-4E9C-97B4-AFF5C77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FA1-ADEF-4C8A-89C3-6DE7D1E6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FA4-9154-4247-90C4-3B52E6E6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F96-FE7C-4047-9550-FCD3A89E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330-37B5-4FA9-90EF-894FDD31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A3C-F50C-4D0B-BDB6-69B803A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A23-1A70-4386-A683-4A9849E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FB4-57A7-48EF-81EA-A2FDE1BA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8E3E2-1D08-406F-AB2F-ADC74A7223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