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547398"/>
        <c:axId val="87939962"/>
      </c:barChart>
      <c:catAx>
        <c:axId val="275473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939962"/>
        <c:crosses val="autoZero"/>
        <c:auto val="1"/>
        <c:lblAlgn val="ctr"/>
        <c:lblOffset val="100"/>
        <c:noMultiLvlLbl val="0"/>
      </c:catAx>
      <c:valAx>
        <c:axId val="879399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5473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1933-6E05-49A5-9726-27E83320F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643F-4DAB-44E6-8A5C-2C4EFC194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7442-4828-48C0-98E9-105177192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52C6-8145-4519-8746-64D5F444D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CC9F-C15B-4898-83A7-D0AD37ACB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F1DC-27BA-49B8-BB9E-618AECB11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47C7-A255-4FCB-99AB-F9FE9A1D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134A-95C6-461A-8446-3F3472921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4C1A-DDE3-43ED-9435-00412144E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375A-79D8-4879-85BC-68504A8C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3C08-36EA-48E5-AB95-0B32AD30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4EB4-1366-4DEF-9C0D-14C5678F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A88DEF-A775-4D01-B64F-9D759D5D182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