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9191"/>
        <c:axId val="12774691"/>
      </c:barChart>
      <c:catAx>
        <c:axId val="37339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4691"/>
        <c:crosses val="autoZero"/>
        <c:auto val="1"/>
        <c:lblAlgn val="ctr"/>
        <c:lblOffset val="100"/>
        <c:noMultiLvlLbl val="0"/>
      </c:catAx>
      <c:valAx>
        <c:axId val="12774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9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462-6A69-4991-8208-558D4149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AE7-F4A1-4928-9737-63F0231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D53-FEEF-42A3-B96A-7520F9B5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E28-245F-4C15-84F3-54C284B2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67D-7AE4-47A0-A304-5FE585B9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B3F-FB58-4CFE-84AF-BBB49F2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8A3-F03C-4EAD-80CC-9C4E544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1A2-2805-4B8B-AAD5-DC557CE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1CA-EC34-472E-9976-CDE68DB2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0C4-E565-4D7D-8CE2-DEB7FBE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28B-1D4F-4B55-8418-A1DA8354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871-52AB-497A-A0EC-4075725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91722-FE89-404B-9293-69F0EA7E1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