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07452"/>
        <c:axId val="45604579"/>
      </c:barChart>
      <c:catAx>
        <c:axId val="32107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04579"/>
        <c:crosses val="autoZero"/>
        <c:auto val="1"/>
        <c:lblAlgn val="ctr"/>
        <c:lblOffset val="100"/>
        <c:noMultiLvlLbl val="0"/>
      </c:catAx>
      <c:valAx>
        <c:axId val="45604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07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18E-959C-4777-B36C-1B1FED8E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BA5-2906-465F-AA6F-5A8F9178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AA5-A09F-45C9-817B-68336AF7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4D1-AB09-4BB1-87DE-C6377FBA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B5F-0CFE-4FD1-9B26-A8D01057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51C-42DA-4239-8B96-C562090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BD5-47D6-4911-AD6C-57C0162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AD0-D96C-4CDE-AB82-20B2A71A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6F8-A280-4355-ABB6-D1EB2AFE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AEE-0D80-4C50-B6A0-7579AA3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E0D-0127-4A08-AD57-729E0DB5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1F7-4921-4FDD-AD53-2ED654E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E2D68-E4DC-4023-9FE1-1EF7FE1C0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