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03860"/>
        <c:axId val="45028792"/>
      </c:barChart>
      <c:catAx>
        <c:axId val="57003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28792"/>
        <c:crosses val="autoZero"/>
        <c:auto val="1"/>
        <c:lblAlgn val="ctr"/>
        <c:lblOffset val="100"/>
        <c:noMultiLvlLbl val="0"/>
      </c:catAx>
      <c:valAx>
        <c:axId val="45028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3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0DA-DFCA-4A69-B907-82D70B61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FD9-0FE8-485D-930A-56B153E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D3C-B039-4E22-871F-0D1705A7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0B5-DAD9-4847-926F-3C7F7F57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D74-6395-42CD-AF7D-0B71839D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F1A-3030-4F49-9744-8DE1258D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9C5-5F2E-4A7C-A646-C377F41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7CC-707F-457B-B363-4F652B1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D2E-08A0-4806-8533-5B1B101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436-6598-4467-8B93-DFA41BD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521-5421-48CB-8BD5-F2A13AD0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18A-8FA4-4E19-A93B-6F91B4A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2BA2D-80EE-4D6D-B5C3-69320B2460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