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15214"/>
        <c:axId val="22815559"/>
      </c:barChart>
      <c:catAx>
        <c:axId val="11015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15559"/>
        <c:crosses val="autoZero"/>
        <c:auto val="1"/>
        <c:lblAlgn val="ctr"/>
        <c:lblOffset val="100"/>
        <c:noMultiLvlLbl val="0"/>
      </c:catAx>
      <c:valAx>
        <c:axId val="228155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15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571-ED2D-4C7F-AB39-CB2E5075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AB6-50C9-4E32-9B6E-07CB79C6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0784-F317-4A0C-85ED-8FEAE3BD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410-6AAD-4B23-AA0D-3467E73E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12E-A7A8-430C-A66F-0030A697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0F08-A87E-4813-ACA4-9E6E3EF5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9CF4-BBBD-49D3-8F54-5B0D85C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45C-E58D-4CE1-B302-27DDFEB4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F4A-EFCC-46DC-9B3F-5285AD5B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DD5-6A50-4CE1-A971-1375DFC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F4E3-B038-4888-B3D5-4B410D1C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815C-7432-4BBB-9B0E-383ED673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5F374-58FE-4322-B683-57BFEEE2DA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