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400972"/>
        <c:axId val="35243451"/>
      </c:barChart>
      <c:catAx>
        <c:axId val="25400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43451"/>
        <c:crosses val="autoZero"/>
        <c:auto val="1"/>
        <c:lblAlgn val="ctr"/>
        <c:lblOffset val="100"/>
        <c:noMultiLvlLbl val="0"/>
      </c:catAx>
      <c:valAx>
        <c:axId val="352434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00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F44-8830-4A16-A525-CA7312C8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7B7-322F-4133-B880-51E5C416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BCA2-DC1D-447E-A8F9-05E5F4E9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E177-092E-4D6C-8A9F-2046B9A6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474-9FE3-425B-B358-B5CF5617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8A6B-324E-4DF1-A3B1-83E31A6F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D71E-C705-4B64-A254-463C3C3F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F8F5-E6AD-4EF4-8286-2701D608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0FB1-3097-4E3F-AEF7-02ABA2E5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CA7-457A-4898-BBF6-5E668ED4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3093-AC18-4B2E-B6DB-F57EE3A6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940-AE32-4A5D-97CB-867D8C5B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A8A5C-590E-42C0-A523-495EE954C0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