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02379"/>
        <c:axId val="68535611"/>
      </c:barChart>
      <c:catAx>
        <c:axId val="51202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35611"/>
        <c:crosses val="autoZero"/>
        <c:auto val="1"/>
        <c:lblAlgn val="ctr"/>
        <c:lblOffset val="100"/>
        <c:noMultiLvlLbl val="0"/>
      </c:catAx>
      <c:valAx>
        <c:axId val="68535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02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D0B-FCB5-4BCE-9240-EBAEA1C4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024-D400-4581-941F-6FBA0B09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29D-2819-4A54-9B86-09733628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B91-B6E7-4307-834B-FB379BFE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8DA-D3E8-4E5A-8825-204A29DC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04C-D004-4818-ACF4-87C92032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FF5-FA53-48DA-ADCB-A7CF894A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444-1739-49B0-91B0-FD33300E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455-783F-4CE7-95FE-9A2547FB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ADA-60A0-45CB-B0B1-083CAF8B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E4F-D30F-4019-98EF-4B195D70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8E4-F358-4705-B1AF-08088440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B915F-236D-4D1F-84DD-66E9422D07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