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4467"/>
        <c:axId val="53428669"/>
      </c:barChart>
      <c:catAx>
        <c:axId val="7954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8669"/>
        <c:crosses val="autoZero"/>
        <c:auto val="1"/>
        <c:lblAlgn val="ctr"/>
        <c:lblOffset val="100"/>
        <c:noMultiLvlLbl val="0"/>
      </c:catAx>
      <c:valAx>
        <c:axId val="53428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4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BCF-ABD9-43EA-BC16-4FBB71A5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C51-8BA8-4465-9DD3-2245E75F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0B2-0EBE-4CC0-B3D1-D6C1A6FF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1E7-771A-4003-87DA-5EC21F1D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514-5FA9-4AED-8E2F-F16511A3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231-2EAD-4C0A-BC08-558EE8F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1A5-D589-4BA0-B554-7FC46B7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286-9031-482B-9F04-F61747A1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F80-8316-4CDD-987A-2210AB58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A19-B17D-4FD9-95F0-E0C36EF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A54-60EE-4E92-A28E-0AB9E97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882-A75B-4CA7-B501-16EFB741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B6508-CC53-47C8-88D1-C4FE223DD4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