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54952"/>
        <c:axId val="48437197"/>
      </c:barChart>
      <c:catAx>
        <c:axId val="45154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37197"/>
        <c:crosses val="autoZero"/>
        <c:auto val="1"/>
        <c:lblAlgn val="ctr"/>
        <c:lblOffset val="100"/>
        <c:noMultiLvlLbl val="0"/>
      </c:catAx>
      <c:valAx>
        <c:axId val="48437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54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1BE-074A-48CA-8D78-398C6B73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E19-0233-43C0-8A80-0EE95E5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4DC-7796-4C31-B6B7-9BA2CBF5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DF6-5DD8-4395-A405-421B23FE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4D0-DB98-4053-AFD1-8716EDF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768-3EDE-4889-AB3A-D52336EF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AEE-260F-4380-8689-638D1A4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108-27C1-4CBE-B50C-A97A6516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B53-28A9-44EC-A43A-2A0CBB13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D51-DD7E-4EFA-991D-F0481D3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A6C-0F4F-47E9-B7B8-664F2FA8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91F-6EC7-4E7A-8DFB-DF41E0C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E542-2D63-4D81-8E9B-F2E4C9D3CA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