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81578"/>
        <c:axId val="94978749"/>
      </c:barChart>
      <c:catAx>
        <c:axId val="12881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78749"/>
        <c:crosses val="autoZero"/>
        <c:auto val="1"/>
        <c:lblAlgn val="ctr"/>
        <c:lblOffset val="100"/>
        <c:noMultiLvlLbl val="0"/>
      </c:catAx>
      <c:valAx>
        <c:axId val="94978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1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3AB7-2941-49D9-B069-48E497DB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030-DCDC-40BF-B1C4-0914F4EE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410-D83B-40A8-A8D8-872CC9A9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C4C-5E91-4A94-AFFC-B62A8171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395-21CA-4381-80E7-A6B5394E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BEC-5F66-4A52-85E8-1AB0655E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56A-F75B-448E-9091-CB629D79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350-4E3C-46F0-B7C8-5CFCD0BF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1DD-BA98-42C2-BE8B-2CC090D9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5FB-F82B-472F-8EFA-0203A7EF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FB8-381E-4BFC-960C-752AF2B5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703-7462-4DDC-BC0F-16490225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8E6D4-CD0D-4F14-BBF9-5AB22CF1E6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