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56237"/>
        <c:axId val="61003469"/>
      </c:barChart>
      <c:catAx>
        <c:axId val="4845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03469"/>
        <c:crosses val="autoZero"/>
        <c:auto val="1"/>
        <c:lblAlgn val="ctr"/>
        <c:lblOffset val="100"/>
        <c:noMultiLvlLbl val="0"/>
      </c:catAx>
      <c:valAx>
        <c:axId val="61003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E6E-43B0-44BC-86D6-79323C41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811-F7CB-4CAC-84C8-5EA108F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2B1-E42F-453E-A3FB-A2D44F24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7E8-E50A-4625-9D54-B00CF3CF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496-6F6E-45A8-B50C-67D87D0B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F28-F801-4AB6-9D72-323D9E5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7E3-B983-4700-BDAD-7ACA67EF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AF2-CCBC-47DF-9C63-67210BE8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EB1-100A-4B82-B122-E06AFA0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75F-9F27-40A8-B09C-F3C1910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D00-BD56-48DB-A943-09B71FB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AC7-53CC-4F51-A6E9-A8FEC14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B8FA0-0EEA-40B6-B087-0E8B58CF12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