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57591"/>
        <c:axId val="64434010"/>
      </c:barChart>
      <c:catAx>
        <c:axId val="80757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34010"/>
        <c:crosses val="autoZero"/>
        <c:auto val="1"/>
        <c:lblAlgn val="ctr"/>
        <c:lblOffset val="100"/>
        <c:noMultiLvlLbl val="0"/>
      </c:catAx>
      <c:valAx>
        <c:axId val="64434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57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61C-858E-4E39-84F3-19C339CB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F83-7F42-49B1-A232-63DCAB44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666-B011-4F4A-AFDD-4BA75C6E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ADC-5C8E-4C03-A166-5BDDAA9C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A6E-B9C1-47C1-9C31-395C798D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B70-5F21-4D4B-857C-83F45620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29F-E63B-4E14-89ED-8FEDE466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BD8-7BA1-4747-955A-4C633724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693-32B9-41A4-A3B0-0E334E1A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EF0-602D-4D2D-A9B5-4232B96A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435-7FBC-4643-AEEB-E7DEAA8C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2B9-5C55-4C7C-9EA8-D6FD5198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1EE73-90CF-4704-966D-C7441CC74C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