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73066"/>
        <c:axId val="33692758"/>
      </c:barChart>
      <c:catAx>
        <c:axId val="87730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92758"/>
        <c:crosses val="autoZero"/>
        <c:auto val="1"/>
        <c:lblAlgn val="ctr"/>
        <c:lblOffset val="100"/>
        <c:noMultiLvlLbl val="0"/>
      </c:catAx>
      <c:valAx>
        <c:axId val="336927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30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4B7E-8108-4D41-8FD5-7CB58749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A248-D606-4E39-8DD7-D82E896E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2BD7-2E2E-4072-9F0B-22E9C7DF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0B9A-26F2-4A4F-9608-B468F295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82EA-73AE-46C9-BADF-7974DC6B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57A2-3ABF-4C17-A60D-387FC8D6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9C57-8438-41BF-83A7-6E1BD474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8B8F-EBB0-4C3D-A2B5-4A7AB577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96F2-F6B0-4661-BFE4-863C8408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80F0-97BA-4226-A57A-E2CAEF55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C37C-BC22-4C06-A6F4-F282D195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D118-1B88-4F31-9B69-2E057BFC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A845B-1328-4F0E-B7CF-DC5CBEEAA8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