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34467"/>
        <c:axId val="61543907"/>
      </c:barChart>
      <c:catAx>
        <c:axId val="16134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43907"/>
        <c:crosses val="autoZero"/>
        <c:auto val="1"/>
        <c:lblAlgn val="ctr"/>
        <c:lblOffset val="100"/>
        <c:noMultiLvlLbl val="0"/>
      </c:catAx>
      <c:valAx>
        <c:axId val="61543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34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DD9-6992-4CEC-963A-65050D2E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7D8-71F9-4F8D-93FD-4F5BFA1A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F376-8516-49D1-B7FC-AC064E6D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E82-2F78-4BF5-B36F-6C2FFA7C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ED72-E516-44BC-8EAD-22894860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6898-201A-4543-8F8D-A6398A0F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BA3-60FB-43DE-8B18-493B8AA9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AE93-1FF3-4755-97CA-80D3BB2B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79A6-72B9-4615-B75B-5D840155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03F-1116-45CD-8F22-872091AE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F2E-8123-44B0-BBA2-26E1EBD6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B5A-28C8-4471-B6C1-2E6DA735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EBDBC-E82F-4BC8-A3CA-2B1B0A86BB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