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32240"/>
        <c:axId val="60410185"/>
      </c:barChart>
      <c:catAx>
        <c:axId val="93632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10185"/>
        <c:crosses val="autoZero"/>
        <c:auto val="1"/>
        <c:lblAlgn val="ctr"/>
        <c:lblOffset val="100"/>
        <c:noMultiLvlLbl val="0"/>
      </c:catAx>
      <c:valAx>
        <c:axId val="60410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32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9E6-7C6A-4084-8185-1A14B607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D51-3413-4C5F-B7CE-346D6EBC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B2B-20D7-4CED-A0AC-951AFBB1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14C-75C7-4075-8E3C-E8959A6F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B5B-CED4-4567-812C-F4B0536E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0F0-9858-4221-9941-28EFE16C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44C-CE69-4FCA-85BC-37C22006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6BE-9323-40E1-AE3F-B64DEE95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F92-D752-4245-866E-58BEFF47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D5B-8719-443F-B0F3-CDA4F6D9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CD6-AB09-4847-9CB4-4149614C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8F6-2014-4E87-B54E-B3FD703C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56E7F-6B3F-4675-B3DD-5A3BEDF6C9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