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24913"/>
        <c:axId val="51407845"/>
      </c:barChart>
      <c:catAx>
        <c:axId val="51524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07845"/>
        <c:crosses val="autoZero"/>
        <c:auto val="1"/>
        <c:lblAlgn val="ctr"/>
        <c:lblOffset val="100"/>
        <c:noMultiLvlLbl val="0"/>
      </c:catAx>
      <c:valAx>
        <c:axId val="51407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4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F3B-CCA7-4709-B05D-4912C2F9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5F1-F0FE-4002-A033-5C24555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25C-19E7-4178-B952-49F6D5BB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D41-8C6A-4CB5-A6F3-768BDC6A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D42-E5CC-4F35-BC63-36F316F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85E-4F61-488A-B4D3-84468552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D2C-7C3C-4B3C-B7A7-7A90258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9BE-4959-43CF-8D8D-D5947C5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2B6-9B75-415C-9EEF-CEDBA7D9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ABA-D899-4D4E-B618-C70F441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093-9DCE-4924-AE01-F9C7503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003-D76B-4073-BC1D-C40E0C7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9DB70-0E72-4871-A018-253B33EBC6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