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50724"/>
        <c:axId val="48564998"/>
      </c:barChart>
      <c:catAx>
        <c:axId val="58750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4998"/>
        <c:crosses val="autoZero"/>
        <c:auto val="1"/>
        <c:lblAlgn val="ctr"/>
        <c:lblOffset val="100"/>
        <c:noMultiLvlLbl val="0"/>
      </c:catAx>
      <c:valAx>
        <c:axId val="48564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50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766-2630-48C2-8CC0-28FBA132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5B2-C91D-4540-80A4-107E292E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62A-F4AC-4402-915C-F757E7BD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C2C-417F-424A-8549-05BC4833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752-7C5E-4AF9-AD29-5E10FDE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065-95B8-41E5-9C8F-2AF1D14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8D2-449B-4576-AE1F-703B8B5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8EF-8DF2-489C-B4CE-2E3FC57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07F-B180-40B8-8FA0-D8181025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E3F-7DDD-43A4-956F-9DA9E2B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342-B163-43E2-A8B8-4C843D7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FD3-4196-424A-B39F-1F38DDA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2A58E-3858-469F-9AAE-712DB73B5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