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23552"/>
        <c:axId val="80772976"/>
      </c:barChart>
      <c:catAx>
        <c:axId val="93723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72976"/>
        <c:crosses val="autoZero"/>
        <c:auto val="1"/>
        <c:lblAlgn val="ctr"/>
        <c:lblOffset val="100"/>
        <c:noMultiLvlLbl val="0"/>
      </c:catAx>
      <c:valAx>
        <c:axId val="80772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23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A5F-108E-4FBA-AD60-44E31BA8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07B-82DC-4C33-A759-2A805001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24D-4261-4420-93F1-C8C95F8A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070-4FB9-42DB-B641-777C140D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943-2522-4850-896A-6BD21C4B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54C-D9A9-4F3F-AA11-0C986605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E4C-2E92-41FE-99BD-1BF3CEBB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C12-03B6-40BA-82CF-53E99EE2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4A6-509F-4E53-BE47-37002D55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377-A78D-47DF-8B7A-92A6E356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43C-DA38-4DC9-8CD7-2A26E787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65E-3596-4F6B-A5D4-803A6978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8478B-F1B0-47F4-B101-24D4C42D6E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