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779278"/>
        <c:axId val="18078271"/>
      </c:barChart>
      <c:catAx>
        <c:axId val="227792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78271"/>
        <c:crosses val="autoZero"/>
        <c:auto val="1"/>
        <c:lblAlgn val="ctr"/>
        <c:lblOffset val="100"/>
        <c:noMultiLvlLbl val="0"/>
      </c:catAx>
      <c:valAx>
        <c:axId val="180782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792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6B48-309F-4C98-A22A-E3515B96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CE4F-779D-4EE9-9644-EE91D8FB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B44A-C617-44A0-B84B-4A493EB4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9FB6-FE74-4E72-AAB5-DB4BB65C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C912-7E9F-41CF-85AE-0651DF74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819B-AE66-4B06-9406-0AEDEB4A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DD6-6E36-4B6E-B85F-F408CE9B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3453-0661-43A1-99AB-D6A09AB7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54A7-C27A-4BD8-B05D-B3191956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7E0E-1644-41C6-B85E-6854C199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D332-77BF-4EE1-AE0B-122BFAFC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2DF5-C8B7-47B0-9A1D-E2CC43EE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D2C35-1652-4986-8F14-05E5F8ACB1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