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43575"/>
        <c:axId val="16611910"/>
      </c:barChart>
      <c:catAx>
        <c:axId val="76643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11910"/>
        <c:crosses val="autoZero"/>
        <c:auto val="1"/>
        <c:lblAlgn val="ctr"/>
        <c:lblOffset val="100"/>
        <c:noMultiLvlLbl val="0"/>
      </c:catAx>
      <c:valAx>
        <c:axId val="16611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3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632-85C7-4B9F-869B-90C5309E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088-CCDB-474A-AB94-7E9FD0A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6E7-77AB-4563-89CA-ECD2AC9F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2FC-F044-4BF4-BFF7-4F9D9084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942-EBB2-47C1-B938-D586379A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0C3-F897-43F3-85F9-3A8C1B0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A97-6FBC-4CF6-9EA8-36576B03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E40-E146-46B4-9DDB-EBB8C080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F1D-E886-4F5B-AC71-5CD01D62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F7C-6574-48DC-A853-FE34C2D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B1C-D28E-4B7B-BF47-608F2ED9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D1E-2DA7-45B6-A782-45C8F2C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FBE1-A2AB-4704-AF78-522BD4B6F1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