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26682"/>
        <c:axId val="54850247"/>
      </c:barChart>
      <c:catAx>
        <c:axId val="95426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50247"/>
        <c:crosses val="autoZero"/>
        <c:auto val="1"/>
        <c:lblAlgn val="ctr"/>
        <c:lblOffset val="100"/>
        <c:noMultiLvlLbl val="0"/>
      </c:catAx>
      <c:valAx>
        <c:axId val="54850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26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6C5-5528-4F61-B5B2-762521C6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B78-80D8-463A-89BC-D4FC7F5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CE1-3725-4C9E-9BE2-7F3732C2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85B-F45C-4E5D-B070-1F8A1C78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39C-BD46-49E9-8D26-8E8E833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4B0-A5E1-4EB2-82B6-7112366D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58F-EAA6-4E87-ACB9-8E38AD3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F2E-AD7D-42DD-AE20-C92B1F5D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146-ED80-49E4-B005-6D37424A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74D-B0B7-410E-B457-4FF37DB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618-0CC8-4E26-8867-EDE2E215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CEA-EBE2-4B95-8E0D-2C859EB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A06F4-5731-412B-86D9-F575804DE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