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35599"/>
        <c:axId val="19979152"/>
      </c:barChart>
      <c:catAx>
        <c:axId val="31355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979152"/>
        <c:crosses val="autoZero"/>
        <c:auto val="1"/>
        <c:lblAlgn val="ctr"/>
        <c:lblOffset val="100"/>
        <c:noMultiLvlLbl val="0"/>
      </c:catAx>
      <c:valAx>
        <c:axId val="199791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355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C615-06DB-480A-8F39-B678439C4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104F-3708-4968-91B4-9E14438CC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4239-A92A-4910-912D-98DC69F8C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4C54-C2D3-49B3-8EE3-A9B74B727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3CC5-3338-498B-8110-47C86A54D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B32D-23DC-4C83-86AA-224E3426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F4E6-02D3-47A9-9B0E-7493386C7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F9F1-B143-4C8D-B96C-27E6A6F51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89F2-7B58-4F90-9CD5-3C4D59CCD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CBD9-C06E-4291-9686-5393BCF4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5BB6-2178-485F-8D00-A6CE4F8F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E970-D26D-4FFB-A56D-DDAEA019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384E34-1A4D-4206-AEAF-603663A5BF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