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35823"/>
        <c:axId val="95695210"/>
      </c:barChart>
      <c:catAx>
        <c:axId val="99358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695210"/>
        <c:crosses val="autoZero"/>
        <c:auto val="1"/>
        <c:lblAlgn val="ctr"/>
        <c:lblOffset val="100"/>
        <c:noMultiLvlLbl val="0"/>
      </c:catAx>
      <c:valAx>
        <c:axId val="956952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358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EE5B-F14B-4173-AB57-CC2711DE8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7920-3626-41F3-B5BC-DC475EE0D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014F-7DB1-43A0-A4D3-E7F5BCE68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644B-C1D6-4B6D-86C5-1878ADFE7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8880-1DAB-49C6-832D-20E40DF1D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6583-999C-4130-977D-9DBE5BC74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CC24-E585-48DC-A259-6B0F3FF5F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2748-9BB7-4767-88A3-9A45565CE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0F5B-27C9-47DE-8387-36418E87E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ED9C-3B4B-41E8-B779-75ABA6B08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2131-1BD3-408E-975A-6E8C1FEE3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D172-2C2C-4906-8882-FBCB7E036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822B12-AD82-4C9E-96F9-07AE5BBB127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