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49401"/>
        <c:axId val="36683098"/>
      </c:barChart>
      <c:catAx>
        <c:axId val="18549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83098"/>
        <c:crosses val="autoZero"/>
        <c:auto val="1"/>
        <c:lblAlgn val="ctr"/>
        <c:lblOffset val="100"/>
        <c:noMultiLvlLbl val="0"/>
      </c:catAx>
      <c:valAx>
        <c:axId val="366830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49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B4CA-FC72-4323-9142-2D758A46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86A6-CD92-4AF0-AF91-982C10DF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03B2-FB67-4E5F-8AD4-D30443A4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9BA3-6E35-46AA-8A0D-D8B35D24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110-7F4F-459C-80E5-9B235265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9B1-44E4-4A15-B024-B7CB7626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E7A-CA8D-4B07-A720-688FD184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3AA-5EC7-417B-ADAA-6E9DAEDD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B817-939E-441E-BDCE-FD2B8D7C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18C-B484-4EFF-8759-F3BB7ADE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C3F-6307-4EC7-9627-75C3A6A0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582-7A51-4A2A-BD02-C48E73FB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CC623-9EE4-4AC9-9B94-34ED2F4C8B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