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55017"/>
        <c:axId val="48845664"/>
      </c:barChart>
      <c:catAx>
        <c:axId val="32755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45664"/>
        <c:crosses val="autoZero"/>
        <c:auto val="1"/>
        <c:lblAlgn val="ctr"/>
        <c:lblOffset val="100"/>
        <c:noMultiLvlLbl val="0"/>
      </c:catAx>
      <c:valAx>
        <c:axId val="48845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5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BB4-B22E-4B41-A4A1-5DADB35A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85D-AE94-4B77-8809-F226A4B3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679-B38D-49FE-9C55-8337D616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178-94E0-4D20-AE9B-50A2B136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1E3-4F8D-41D1-872D-C9E2D48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5CD-A7BA-481B-8D7E-9FB65322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0D5-A998-44D4-BA2A-E6191C3B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E32-9276-4F24-9C77-E53CE1DB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093-2F63-403D-9FB6-53BE564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347-5E76-49A0-9A86-6446377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F17-3CC8-4DFD-AAA5-9AB6AE8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87C-263C-4AC7-9AF3-4774314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A74F2-4049-412E-859E-9B3FC5AE7A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