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814256"/>
        <c:axId val="12756401"/>
      </c:barChart>
      <c:catAx>
        <c:axId val="438142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56401"/>
        <c:crosses val="autoZero"/>
        <c:auto val="1"/>
        <c:lblAlgn val="ctr"/>
        <c:lblOffset val="100"/>
        <c:noMultiLvlLbl val="0"/>
      </c:catAx>
      <c:valAx>
        <c:axId val="127564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142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0EF5-173A-4446-B7C5-A37E3B994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78F5-025E-4DAF-B524-F78B81B2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FE90-2B52-4515-A53D-EBBB30303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DEF6-17D0-4781-9E2F-39909D676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C66A-C30E-46C7-97C6-CB2BF9C8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93DF-717D-44FA-952A-BD445773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45ED-840A-4D42-894D-26C2979A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70BD-F007-4BEB-B96D-D119A68E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F4DB-23D0-454E-B95B-04B8BF59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A945-A43A-4DC8-A1D7-678BFC8F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53EE-660E-48D7-BACD-CFE6B7C5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D355-FC8D-4126-943E-AA7806C1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94F19-64AA-4B9E-8D29-F2563CF59D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