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74252"/>
        <c:axId val="69781543"/>
      </c:barChart>
      <c:catAx>
        <c:axId val="87574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81543"/>
        <c:crosses val="autoZero"/>
        <c:auto val="1"/>
        <c:lblAlgn val="ctr"/>
        <c:lblOffset val="100"/>
        <c:noMultiLvlLbl val="0"/>
      </c:catAx>
      <c:valAx>
        <c:axId val="69781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4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3CC-9CE2-4949-A9D1-F40562DF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0B1-FF10-4757-AC50-D499433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A81-5772-4BC4-B106-7D97E081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D54-A505-4B47-8D90-ADC886EE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363-1A90-487B-8321-D27C5E2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6EC-C155-404C-9B62-F034E3CA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389-BB3B-4CC2-B439-AC1260B7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DFA-A999-4F8E-AB5F-063D6B8A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1D9-1E4E-4AAA-9841-95E4A40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A9C-4FBF-407D-BEED-C3FD927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F13-CD01-4829-94A2-778F90B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C60-88A4-47D8-B02E-E6A2F09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3668-A267-4779-ACA2-1131B83B0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