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06380"/>
        <c:axId val="89679361"/>
      </c:barChart>
      <c:catAx>
        <c:axId val="53706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79361"/>
        <c:crosses val="autoZero"/>
        <c:auto val="1"/>
        <c:lblAlgn val="ctr"/>
        <c:lblOffset val="100"/>
        <c:noMultiLvlLbl val="0"/>
      </c:catAx>
      <c:valAx>
        <c:axId val="89679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06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C7B-176E-418A-8875-E830891A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42A-F01A-4106-8CC9-55368B13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2D8-03B6-444E-8CF1-48D4AD40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ABE-B653-4FD7-97E1-EA9673D8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820-5419-4A93-B16F-4B425B03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BEB-C34A-45E5-9779-C09BC178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FDA-3EB2-4741-94D4-3D26A92A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EDA-B06B-403E-9B95-0947B343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189-946A-4D86-8D0F-7FB514B2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C3A-091A-44A4-BCD9-B0EAD36A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C21-8DEF-40F2-BA39-FA3D2B1F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EFB-9C5B-434E-86AC-4629EE50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7ED5A-51FB-41F0-9F1D-721EC7B809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