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25094"/>
        <c:axId val="44559570"/>
      </c:barChart>
      <c:catAx>
        <c:axId val="93125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59570"/>
        <c:crosses val="autoZero"/>
        <c:auto val="1"/>
        <c:lblAlgn val="ctr"/>
        <c:lblOffset val="100"/>
        <c:noMultiLvlLbl val="0"/>
      </c:catAx>
      <c:valAx>
        <c:axId val="44559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25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CE9-B52B-41AC-BBC1-63CD907D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D63-6620-4C72-9E8B-977E4E0A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A0C-38E6-4F47-B04F-89653EB0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390-E156-426B-A6B6-D39F394C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7FE-73E2-4421-949F-2C1FCD4E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9A6-160A-4C40-9D65-A787C9E8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149-FBBC-43F7-8E92-ABB22CC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879-5AAC-470D-9335-46C5B6CC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141-8DA0-46A1-A2E4-53DE36DD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AC3-8896-4BB0-977A-6DFC12C2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383-93FA-47D2-B896-90F643D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1F8-2DEF-4320-973E-FE57EB4C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5DC2B-F3B5-4E82-82CD-BE70086936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