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020636"/>
        <c:axId val="8067050"/>
      </c:barChart>
      <c:catAx>
        <c:axId val="100206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67050"/>
        <c:crosses val="autoZero"/>
        <c:auto val="1"/>
        <c:lblAlgn val="ctr"/>
        <c:lblOffset val="100"/>
        <c:noMultiLvlLbl val="0"/>
      </c:catAx>
      <c:valAx>
        <c:axId val="80670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0206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E77C-1F18-4D48-9CD4-D55280C09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8BF9-2BE3-422B-9A55-936096A04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3073-D2A8-489F-8B91-2A40F1DF3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1C16-C904-4E5A-A310-FD953D409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6831-3562-4181-8A3D-EFB9ADC12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560D-FB68-44BF-BF41-BCED93642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253E-65E1-485B-B6E6-BB69BE7FF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C15D-1354-4E23-A51D-04B14E1F7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87A2-129B-468E-B568-7F817AC99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668A-3736-4C44-945F-03378134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DDCF-E6EE-4D6C-BEA2-8DA14500D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2616-5F29-4C6D-8E11-29F968B47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F81890-2204-49FB-AB1A-BCB7AB77CB8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