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47208"/>
        <c:axId val="22773367"/>
      </c:barChart>
      <c:catAx>
        <c:axId val="183472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73367"/>
        <c:crosses val="autoZero"/>
        <c:auto val="1"/>
        <c:lblAlgn val="ctr"/>
        <c:lblOffset val="100"/>
        <c:noMultiLvlLbl val="0"/>
      </c:catAx>
      <c:valAx>
        <c:axId val="22773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472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D49-D119-43A2-A71B-4FB96BC6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8CB0-AC29-44C5-954B-CE9FAB66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9FDD-56AD-4BA1-884A-928F9F53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E9D-765B-427B-85E2-885B3F73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95D-FE4C-4998-B254-E74F1985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7C6-6D3C-45C2-B6D5-723DD990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E66B-019E-46AC-A457-51B4443F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32E-A942-4862-8477-500924A9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D3C-E467-4DEF-BA6D-8B8F5A53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CD0-01C9-4ECF-BDDE-F14CC188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DD9-11A4-4CC3-8BF3-14756AC2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BF30-E37E-4B36-A502-2A63C7B4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1A722-7DCB-41EC-87AA-DCD324F104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