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40367"/>
        <c:axId val="94946731"/>
      </c:barChart>
      <c:catAx>
        <c:axId val="79340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46731"/>
        <c:crosses val="autoZero"/>
        <c:auto val="1"/>
        <c:lblAlgn val="ctr"/>
        <c:lblOffset val="100"/>
        <c:noMultiLvlLbl val="0"/>
      </c:catAx>
      <c:valAx>
        <c:axId val="94946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40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CB3-1429-40E1-AF9E-9AB9A902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48A2-BA11-4049-AD0D-3177EB50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8A4-8BAE-45F5-A7B2-B4B3E2E0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25D4-F4E1-40F4-B9A5-FBB8156E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DAC-7309-4792-A540-26DF6B6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CDD-BEB9-48BD-9B76-0732C8A4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242-BC8E-4996-AB01-0FAADD02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2E4-DC8B-4634-86D2-39EFF355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DFC-DC42-4444-990C-2370DDA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BC7A-3AE1-443B-8A2F-BA89CE79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D53-24D2-4DE9-928B-03BD4FC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E81-F9C5-4C6C-8964-29D6070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7E98E-5C01-4F0A-AB33-EE971A332B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