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24931"/>
        <c:axId val="87929667"/>
      </c:barChart>
      <c:catAx>
        <c:axId val="42024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29667"/>
        <c:crosses val="autoZero"/>
        <c:auto val="1"/>
        <c:lblAlgn val="ctr"/>
        <c:lblOffset val="100"/>
        <c:noMultiLvlLbl val="0"/>
      </c:catAx>
      <c:valAx>
        <c:axId val="87929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24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A4E-EF98-49F1-9190-00F358FB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6B6-720D-4605-8A00-A5A16E49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0EF-590E-4217-A3B5-485D81FE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6E1-A213-4EFB-AA48-83DB7CFF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7A7-D1F0-4D27-A201-716AB81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F14-0996-44A5-8BAA-54605EA7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399-3C4A-442D-B975-B0ACA88F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054-E4FB-4346-B3DA-2A999A74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C57-5938-49A8-A467-5B2AC4EE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59F-852C-418B-91F5-EE886B27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684-82D5-4E90-9581-A39C4D58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924-D011-4125-BCF7-99F8F050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8B8A3-4751-487B-8A09-D7D67D36B5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