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268963"/>
        <c:axId val="91695091"/>
      </c:barChart>
      <c:catAx>
        <c:axId val="512689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695091"/>
        <c:crosses val="autoZero"/>
        <c:auto val="1"/>
        <c:lblAlgn val="ctr"/>
        <c:lblOffset val="100"/>
        <c:noMultiLvlLbl val="0"/>
      </c:catAx>
      <c:valAx>
        <c:axId val="916950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689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05F9-1EED-44A6-8B89-2D4040E11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03C9-CBF1-41BD-AC40-145490F1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9A2E-CE98-40D6-97AF-4AC5327B6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0D7C-812C-4DE4-BD99-DD58A0E8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582E-A9B6-439C-A0EA-A80CAB99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69CA-476C-4C57-A155-FAF68CC3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762D-75D3-417A-81B4-DCCFCB4B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19A2-DFC5-4F6E-A422-22C90240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A4F7-C710-4357-8D5D-1F8F996E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B847-F69B-4D9F-8823-4B359439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ABF1-FE20-4E31-821E-5D507BF0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BEAC-1A64-4E18-A85C-51F7C938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1184A-4E76-43C2-A686-D6BA1FEA35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