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69884"/>
        <c:axId val="58469802"/>
      </c:barChart>
      <c:catAx>
        <c:axId val="94769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69802"/>
        <c:crosses val="autoZero"/>
        <c:auto val="1"/>
        <c:lblAlgn val="ctr"/>
        <c:lblOffset val="100"/>
        <c:noMultiLvlLbl val="0"/>
      </c:catAx>
      <c:valAx>
        <c:axId val="58469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69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DB1-FB35-4EA7-BE73-1F51D285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161-F421-4D1B-9720-CF10ED67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1E8B-E218-48BE-B2B2-DDA6C377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4779-BEB3-4883-80BE-C73FCF81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90C-C47F-4E49-8CCC-52F60307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637-3F54-4113-9F55-9A5F66BA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85DC-2009-4D72-93E2-258985C4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309-7AB6-4E0E-83CE-132FED25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AB4-1D97-41E2-AB1A-0A261B69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8AF-DA36-436C-B1F2-528CB961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8EA-B24B-4461-9ECC-240F57B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051-A581-4143-A9E4-465FA09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44029-2644-4F86-A043-2E97CAC042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