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930218"/>
        <c:axId val="17085961"/>
      </c:barChart>
      <c:catAx>
        <c:axId val="979302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085961"/>
        <c:crosses val="autoZero"/>
        <c:auto val="1"/>
        <c:lblAlgn val="ctr"/>
        <c:lblOffset val="100"/>
        <c:noMultiLvlLbl val="0"/>
      </c:catAx>
      <c:valAx>
        <c:axId val="170859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9302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4DFE-B7A0-4F89-9B36-A08D61A07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1B27-5564-4878-AD3E-76B7BB54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9B53-0C80-4298-B2F3-6A28A91BC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EAC2-D496-49FC-AB34-8E0D90D01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20C5-30AB-4509-B62E-74911248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A9FF-8CB7-48D3-A953-D029A6FD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D778-1B9A-4BB3-8D80-A1EE6399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185F-C10C-4453-B7AA-790FC71C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99EF-EB7C-4E34-98BD-DDA429CD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496B-D44E-4D8C-81D6-A92BDADB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F49F-A4E8-4956-8D56-CECD9935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4255-6C6D-47BC-9665-38ED5CE5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AF6D89-1267-4ADC-81F2-1688AAB224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