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67149"/>
        <c:axId val="89312623"/>
      </c:barChart>
      <c:catAx>
        <c:axId val="43067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12623"/>
        <c:crosses val="autoZero"/>
        <c:auto val="1"/>
        <c:lblAlgn val="ctr"/>
        <c:lblOffset val="100"/>
        <c:noMultiLvlLbl val="0"/>
      </c:catAx>
      <c:valAx>
        <c:axId val="89312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67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CC9-A4C8-402B-95CB-222E0CC1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614-13A9-4C9C-AC8A-3D93E3AA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D88-E887-4F2F-8FBD-6BD8C158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4BA-23F3-47B9-8195-E28F317E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3C3-5915-44AB-9D2B-579733C8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746-AD38-4BC6-B3A3-B69BDF8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4AB-357C-49FB-8C03-743E787E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41A-2391-47BB-9B9E-33F71EBB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D34-2E32-495C-9E88-58252277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2E6-DA88-4238-B4EA-52804D3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254-6F9D-4CC5-B157-4F4E143D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ABD-DC60-47F2-808B-3BF45EC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331D2-7094-4578-8349-5D306ED68E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