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424504"/>
        <c:axId val="28141615"/>
      </c:barChart>
      <c:catAx>
        <c:axId val="294245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41615"/>
        <c:crosses val="autoZero"/>
        <c:auto val="1"/>
        <c:lblAlgn val="ctr"/>
        <c:lblOffset val="100"/>
        <c:noMultiLvlLbl val="0"/>
      </c:catAx>
      <c:valAx>
        <c:axId val="281416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245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0414-C055-4258-8147-92290505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0D6-6459-4E72-AFDB-3F856A74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A0A-BFB2-420E-88AB-2F2CA0F52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F4AB-B8BE-47AC-A897-2DB8C735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A203-3236-4CE7-A477-AF31E013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D029-73B3-42A5-A192-3181CF5A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6EF6-FDDE-464E-9AE4-677EE580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5D2B-2BB0-4997-8F27-48409AB4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04A-7AB4-407F-A10D-6CF5AEEE5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268-17D8-4D1E-966B-79925257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898-057F-49C8-AB25-F55D3AF4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BCD8-EB39-475F-B9F3-C633F734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F0CEC-12F0-46E8-BF18-E390675BC9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