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F68E-1869-40DA-B3B9-C82BC8CF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BA6EA-759B-4047-AE10-204E7959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52680-A8D2-40D1-9E57-CEB874339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33B0-26DA-47F4-8A6F-3BB0628EE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2284-43B6-40A3-8DEF-A533D5E6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B19D7-AE43-4A07-ACAF-77A1DAFA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46C29-DF99-4AA9-A557-B81BDC82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E4A66-A700-4C7C-85D5-758A394D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C2A9A-A5B1-4EA2-9D68-28D30CDB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224CE-9892-4DC1-8F16-F83BCA38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746F-5795-49B4-B0B0-64AA05F9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C37EC-F6F7-4F85-81C7-8D181CC8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33ED96C3-6097-4EDD-9092-2AA1419E033D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2 -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has three inod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ndisk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ed for storing the metadata for all files, directories and other file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y default 256 bytes but can be up to 2K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nux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Linux and XFS inodes have different lifecycles, which can cause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E3AD-364A-49D7-87CC-C71CA302CC1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irectory and File Inod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79440" y="1359000"/>
            <a:ext cx="8383680" cy="413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37232-D957-4D94-BB50-A98B3937C80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Journal Log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47F1A-0CD4-46D2-BCF7-2A7DA2EC0E1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E7F8-8694-4B2B-B32E-B3AED0E758A7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is section gives an overview of the structure of an XFS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ore detailed examination of the filesystem structure is covered later in the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3FC4-51EF-4EA5-91EE-6D62A6C12D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Allocation Group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XFS filesystem is divided evenly into allocation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allocation group can be from 16MB to 1TB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ach allocation group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er block information about the entir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ree space management (within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ode allocation and tracking (with the allocation grou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ode clusters within an allocation group are created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kfs.xfs does not pre-create inodes throughout the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ee xfs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C4AA-0431-4CE9-BEBE-0C42D2A955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Filesystem Structure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22160" y="963720"/>
            <a:ext cx="7697880" cy="493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FC61C-9BD2-41E0-8925-5880D09A33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260960" y="0"/>
            <a:ext cx="4883040" cy="600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FF99-351C-4AC8-A0BE-ABFF32A795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Limi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32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1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4 bit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 Size = 9 Million TB = 9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ximum Filesystem Size = 18 Million TB = 18 E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FD13E-A230-4912-9F16-F269580495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Filesystem Block Size (FSB)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ilesystem blocks (FSBs) are the unit of space for a file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system blocks are comprised of one or more device-level secto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 page management implementation in Linux limits the FSB size to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4KB on ia32 and x86_64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16KB on ia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BD on powe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erformance can improve with different block sizes depending on the size of I/O requests and the size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rger blocks will also use more disk space for small (&lt;1FSB)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B96C1-4B17-4981-B8BB-E069897FA0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n extent is a set of one or more contiguous FSBs that define a region in the filesystem for file data or 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single extent can be up to 8GB in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file’s inode lists the extents associated with tha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or very large files, the file’s inode may have thousands of extents, or one very large extent. Usually something in betw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xtents are also used for file and directory metadata when the information exceeds the space reserved for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7C3FA-8BD9-4C6F-A196-4D9E4012901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Unwritten Extent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2 -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09F53-4F59-43E8-8313-DED0A966E3A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4:39Z</dcterms:modified>
  <cp:revision>337</cp:revision>
  <dc:subject/>
  <dc:title>Possible CXFS Administration and Monitoring Interfaces</dc:title>
</cp:coreProperties>
</file>