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AB5F4-2EBC-4B88-AC09-21A344C38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46A05-794F-4EE1-A589-ACB69068C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15E4C-051A-49FF-AC3A-F6FFB2E26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0374E-B1B4-4030-A937-AE5B5894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F020C-067F-48E3-8C22-3FEAB66A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B0EE8-C85D-4945-8F60-0B0A4EC3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4E033-7B85-4465-B66F-51D9ADB1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89EE1-F36D-4601-B410-5297E54F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9621C-2FD4-488F-9778-FFDBC30A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45C15-2B8B-49ED-BB62-9E9CAADC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F3FB8-5B02-4FC6-ADDB-49903927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13B8D-7955-462A-A913-B4493CCD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C6D8CD4C-557B-4933-A105-19477CD2A734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4 - mkf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Filesystem Imag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kfs allows you to create a filesystem as a regular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can be used to create a filesystem on a loop-back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 –d file=1,name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=filename,</a:t>
            </a: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size=2g 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fi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E226E-6160-422B-8C8A-472D57B443C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Prototype Filesystem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A00AA-E19C-43FC-91F4-0E5EBB0206C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DE78B-8387-42FF-B3B6-BE966F35563E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Creating XFS Filesystem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kfs.xfs supports a large number of options for configuration a large number of different XFS file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ee mkfs.xfs(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00s = 100 sectors = 100 x 512 bytes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00b = 100 blocks = 100 x 4 kilobytes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100k = 100 * 1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Assuming 512 bytes sectors and 4 KB filesystem 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N option can be used to show filesystem parameters without creating a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so provides the capability to pre-initialise the filesystem with directories and  inodes, which is useful for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6C293-B2D9-4624-A991-E3C2197CF2E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Stripe Alignmen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igning file data on stripe width boundaries can significantly improve performance on large RA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2MB write to filesystem with a 2MB stripe width and 512KB stripe unit will result in four I/Os, one to each lun. Without alignment this would often require two I/Os to one disk, and one I/O to the other three, taking longer than it shou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 create a filesystem with a stripe unit of 1MB for an 8+1 RAID you would 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 –d sunit=2048,swidth=16384 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 –d su=1m,sw=8m 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2BE52-7106-4561-8E91-54FA960624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Inode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mkfs inode options allow the user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size of the inode from the default 256 bytes to up 2048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maximum number of inodes in the filesystem, defaults to 2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xtended attribute allocation poli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se options may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here the inode is allocated in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uch data needs to be read from disk to read the in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much data may be associated with the inode before data goes out of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 allocate 512 bytes to each ino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 –i size=512 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9C365-EBA7-483A-A767-E634A9AF94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Directory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2BA1A-D3AE-449C-AFC3-029A85F295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Sector Siz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5BDDF-7E1A-42EA-8475-762488962D0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External Lo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journal log can be on a different device to the rest of the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t least 512 bloc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 more than 64K blocks or 128MB, whichever is sma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efaults to maximum size for &gt;1TB file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og device could be a device with better IOPS perform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15K RPM disk or battery-backed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kfs.xfs –l logdev=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log_device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ourier New"/>
              </a:rPr>
              <a:t>mount –o logdev=</a:t>
            </a:r>
            <a:r>
              <a:rPr b="0" i="1" lang="en-AU" sz="1800" spc="-1" strike="noStrike">
                <a:solidFill>
                  <a:srgbClr val="000000"/>
                </a:solidFill>
                <a:latin typeface="Courier New"/>
              </a:rPr>
              <a:t>log_device device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59280" y="4869000"/>
            <a:ext cx="576000" cy="100800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3280" y="4869000"/>
            <a:ext cx="1224000" cy="100800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27280" y="4365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Journal Log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3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File Data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FF5A9-C624-4067-8F97-48002355ABC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– Log Alignmen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1101B-266B-40DD-8815-19D30744396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mkfs - Realtim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37680" y="1461960"/>
            <a:ext cx="8474040" cy="29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riginally designed for media streaming requiring predictable lat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altime volume tuned for large files without small inode clus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etadata and file data on separate 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itmap allocator only has to manage file data allo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mkfs.xfs –l logdev=</a:t>
            </a:r>
            <a:r>
              <a:rPr b="0" i="1" lang="en-AU" sz="1600" spc="-1" strike="noStrike">
                <a:solidFill>
                  <a:srgbClr val="000000"/>
                </a:solidFill>
                <a:latin typeface="Courier New"/>
              </a:rPr>
              <a:t>log_device 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–r rtdev=</a:t>
            </a:r>
            <a:r>
              <a:rPr b="0" i="1" lang="en-AU" sz="1600" spc="-1" strike="noStrike">
                <a:solidFill>
                  <a:srgbClr val="000000"/>
                </a:solidFill>
                <a:latin typeface="Courier New"/>
              </a:rPr>
              <a:t>rt_device de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mount –o logdev=</a:t>
            </a:r>
            <a:r>
              <a:rPr b="0" i="1" lang="en-AU" sz="1600" spc="-1" strike="noStrike">
                <a:solidFill>
                  <a:srgbClr val="000000"/>
                </a:solidFill>
                <a:latin typeface="Courier New"/>
              </a:rPr>
              <a:t>log_device</a:t>
            </a:r>
            <a:r>
              <a:rPr b="0" lang="en-AU" sz="1600" spc="-1" strike="noStrike">
                <a:solidFill>
                  <a:srgbClr val="000000"/>
                </a:solidFill>
                <a:latin typeface="Courier New"/>
              </a:rPr>
              <a:t>,rtdev=</a:t>
            </a:r>
            <a:r>
              <a:rPr b="0" i="1" lang="en-AU" sz="1600" spc="-1" strike="noStrike">
                <a:solidFill>
                  <a:srgbClr val="000000"/>
                </a:solidFill>
                <a:latin typeface="Courier New"/>
              </a:rPr>
              <a:t>rt_device device p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rt_device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is the device for the file data,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device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s for the meta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ceives limited testing and support in Lin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4869000"/>
            <a:ext cx="576360" cy="100800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8000" y="4869000"/>
            <a:ext cx="647640" cy="1008000"/>
          </a:xfrm>
          <a:prstGeom prst="can">
            <a:avLst>
              <a:gd name="adj" fmla="val 25000"/>
            </a:avLst>
          </a:prstGeom>
          <a:solidFill>
            <a:srgbClr val="99cc66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47640" y="436572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Journal Log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59280" y="436572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3280" y="4869000"/>
            <a:ext cx="1224000" cy="100800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436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363636"/>
                </a:solidFill>
                <a:latin typeface="Arial"/>
              </a:rPr>
              <a:t>File Data</a:t>
            </a:r>
            <a:endParaRPr b="0" lang="en-US" sz="18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4 - mkf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B8048-5E4B-4F14-B86B-8B83B234AEF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6:17Z</dcterms:modified>
  <cp:revision>338</cp:revision>
  <dc:subject/>
  <dc:title>Possible CXFS Administration and Monitoring Interfaces</dc:title>
</cp:coreProperties>
</file>