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6"/>
          </p:nvPr>
        </p:nvSpPr>
        <p:spPr>
          <a:xfrm>
            <a:off x="3852360" y="-360"/>
            <a:ext cx="2930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28440" y="739440"/>
            <a:ext cx="492588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120" y="4690800"/>
            <a:ext cx="497052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7"/>
          </p:nvPr>
        </p:nvSpPr>
        <p:spPr>
          <a:xfrm>
            <a:off x="0" y="9380160"/>
            <a:ext cx="2930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8"/>
          </p:nvPr>
        </p:nvSpPr>
        <p:spPr>
          <a:xfrm>
            <a:off x="3852360" y="9380160"/>
            <a:ext cx="2930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27E8DA-6B5A-4895-A227-8A303A6450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302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928800" y="739800"/>
            <a:ext cx="49356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30240" y="739800"/>
            <a:ext cx="49370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Deeply hooked into XFS. Block level, not byte. 64bit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for each i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Enforcement of quotas is optional. We can track usage to 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but don't have to enforce that (qnoenforce mount option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Generic commands do not scale to the size of xfs filesystem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but they do work with XF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Other filesystems use a file to record and track quotas,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embeds this information into internal data structures in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inked in the super block. So quota operations in XFS are journa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* Nathan has a patch for quotas for realtime. The dquot is 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o differentiate and you could set different quotas for meta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and realtime dat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Project quotas was commented out of IRIX for a while, whe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inux quotas was done the project quota was used to imp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group quotas. Hitachi then asked for group quotas on IRIX, 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Nathan's project quotas to do group quotas was back ported to IRI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XFS architecture team decided to use project quotas to do direc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evel quotas, which is an inode flag that is inheritable. N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of the user tools on linux understand projects, so we have xfs_quo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that understands user, group and project quotas, even on realti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project quotas are specific to xfs. every xfs inode has a pro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d. inodes inherit project id. does not allow links between in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with different project ids. could be used as a cheat to grow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hrink a filesyst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qflags field in sb holds 3 bits for each type (user, group, projec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ndicating if we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- allocating (tracking)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- enforcing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- checked (on mount if this is not set but mount with quotas, go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bulk stat and rebuild quotas then set this bit. bit is unset w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filesystem is not mounted with quo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b also holds two special inode numbers for the dquot fi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linux quotas in the vfs maintained by Jan Kara at Su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quota file is large and gets fragemented since it needs to deal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huge range of ids support by linux. it could preallocat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1000"/>
              </a:lnSpc>
              <a:spcBef>
                <a:spcPts val="3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it could be a btre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28800" y="739800"/>
            <a:ext cx="49305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28800" y="739800"/>
            <a:ext cx="493848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2880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06120" y="4691160"/>
            <a:ext cx="49719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C1AF5-E6E8-4DFF-8E97-31F7A98B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E3726-1A56-45C5-B57C-214E3E31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70CEB-BAA2-4EAB-B509-F10C74CC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82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5880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80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82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5880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BB59A-D2BE-435E-B99A-58C03A5E0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326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70418-3A62-4978-BDC9-7678577F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824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8800" y="146160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80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824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58800" y="3729960"/>
            <a:ext cx="272376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A60C8-5A63-4767-AFC5-2504FE31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1C704-5D28-46B4-9376-15A9FD42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D43DD-1C66-49C6-BD8B-B9E7BE8F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326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83000"/>
              </a:lnSpc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4BB47-660F-436F-AFE9-CD0E9F2A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0A58E-F116-49B2-8A26-5E6DB79B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2800" y="372996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E4694-804E-45C8-A850-9C170C25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461600"/>
            <a:ext cx="412812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8040" y="3729960"/>
            <a:ext cx="8460000" cy="207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3000"/>
              </a:lnSpc>
              <a:spcBef>
                <a:spcPts val="4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23A69-3B69-4789-876F-68EEC7D7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144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32640" cy="6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8040" y="1461600"/>
            <a:ext cx="84600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760" y="6237360"/>
            <a:ext cx="11764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89072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97A354B9-ABD4-4BBA-B9EF-178717FA20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12680" cy="4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4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6640" y="2695320"/>
            <a:ext cx="549756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6160" y="5694480"/>
            <a:ext cx="189072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126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52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8 - Quotas</a:t>
            </a:r>
            <a:endParaRPr b="1" lang="en-US" sz="32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83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1600" spc="-1" strike="noStrike">
              <a:solidFill>
                <a:srgbClr val="363636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5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 Limits 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2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s xfs_quota -x -c 'limit bsoft=1000m bhard=1200m user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s xfs_quota -x -c 'limit isoft=500 ihard=700 user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Lim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quota -x -c 'limit -g bsoft=1000m bhard=1200m group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Lim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 controlled directories are first added to /etc/projects. Project names are optionally added to /etc/projid to provide an id/name mapp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quota -c 'project -s projectname' is run to initialize project direct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quota -x -c 'limit -p bsoft=1000m bhard=1200m projectnam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8171D-C573-4C08-8CF9-A41DBCE80B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320" y="352080"/>
            <a:ext cx="84373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Enabling/Disabling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646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can be used to temporarily or permanently disable quotas on a filesystem using the following command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able – Temporarily disable quota enforce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able – Enable quota enforcement. Used to enable quotas if they have been disabled or the filesystem was mounted with qnoenfor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 – Switch off quota management quotas can only be re-enabled by un-mounting and remounting the filesystem (Limit information is preserved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 – remove quota extents from a filesystem. All quota limits are destroy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1B0E7-7319-4245-8536-5742D2830D6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55320" y="263520"/>
            <a:ext cx="844236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Advanced xfs commands (xfs_quota -x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84693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also contains comman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mmarise the state of xfs quotas on a system using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m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ipulate the grace period using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ime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up and restore the quota information contained in a filesystem using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um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to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s. These commands are also used internally by xfsd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8A458-F95D-4AE9-805B-B158549ED81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Generic Quota Tool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ddition to xfs_quota xfs also works with generic quota tools provided on Lin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tools include quota, repquota, quotactl, edquota, quotacheck, setquota, and quotaon/quotaoff (enforcement only) and quotawar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eneric tools to not understand XFS project quo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AF721-4412-4521-82D5-C98CC2D4B84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Providing user feedback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systems are configured to provide a level of feedback to users if they exceed their quota li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common method for informing users is to send email using the quotawarn command from the generic quota package. Quotawarn is often as a cron job dai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can be provided for interactive users by running “xfs_quota -c quota” in  users login scripts (/etc/bash.bashrc.local for examp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054DE-A320-496B-8EFF-1601E00338B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quotas are implemented as part of the filesystem metadata (instead of maintaining quota data in a file within filesystem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are updated in realtime as the filesystem is changed. No “quota checks” need to be r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00F40-D2DE-4C8D-A98B-33E62596044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5320" y="307800"/>
            <a:ext cx="843732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Implementation – Project Quotas.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646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quotas are implemented using the group quota inode. This excludes project and group quotas from being enabled at the same ti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configuration information is stored in /etc/projects and /etc/proj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-s projectname initializes the project id in inodes contained under directories specified in /etc/proj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F1484-6E4F-420B-A34F-9A7499ADA3A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5320" y="307800"/>
            <a:ext cx="843732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Implementation – Examin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64680" cy="45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9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db can be used to understand the internals of the quota implement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 inodes can be seen in the filesystem super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db -xr -c sb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7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7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quotino = 1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77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quotino = 1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_db -xr -c 'inode 131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quota entries can be viewed with xfs_db's dquot comm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db -xr -c 'dquot username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db -xr -c 'dquot -p projectname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s can be interrogated to determine which project they belong to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s -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db -xr -c 'inode 675234191' -c p /dev/hd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.projid = 3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.uid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.gid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0FBC4-B55F-4AF6-9A9E-62705E84D7B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Delme? Quotas – Dave's Initial Slide. 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nd group 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ID 42 currently has X blocks &amp; Y inod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space/inodes vs dynamc b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count is file data, intimately tied to space allocator (NB: dquots are journall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(pseudo-directory) 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var/log currently has X blocks &amp; Y inodes, is limited to ..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 files and dqu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(invisible) inodes in primary S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4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 simpl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fs_disk_dquot_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ray, ID inde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4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104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B05D2-A763-4AC0-870C-0669D3D4BE1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provide a method for managing disk resour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s can be used to report on disk us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s can be used to control disk us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manage filesystem resources in two w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Managing Disk Space (bloc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9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Managing the Number of Files (ino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resources can be managed on a per user, group or directory (project) bas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66BB-504F-4BD6-AF90-1A99625D34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485640"/>
            <a:ext cx="84456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 Typ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260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101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tracked or enforc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the disk usage of individuals or system us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the disk usage of grou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 the disk usage of directories associated with a specific project. Projects may cross organizational 'group' 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101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broader levels of control than available using user or group quot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82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be used to effectively shrink a file system allowing administrators to reallocate disk space as need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F8A1C-AC71-46E0-B1D7-EDA2B36A0F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Reporting Vs Enforce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used to monitor disk usage and optionally enforce li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used to monitor disk usage across quota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efficient than using unix tools like du that must traverse the file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otas are maintained as the filesystem is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s can be used to enforce limits on users, groups or projec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 us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s against rouge processes bringing down system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re are two types of limits. Hard and sof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EFEDB-1494-4A83-8C49-D155D806F1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320" y="307800"/>
            <a:ext cx="8437320" cy="56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7000"/>
              </a:lnSpc>
              <a:buClr>
                <a:srgbClr val="440099"/>
              </a:buClr>
              <a:buFont typeface="Helvetic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Enforcement (Limits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64680" cy="42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types of limits; Hard and So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are advis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additional disk resources to be consumed for a period of time. this is known as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flexibility to users and processes that may occasionally need to exceed there quota temporari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 further allocation of disk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I/O that attempt to allocate further disk resources is fail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isting data on the disk is preserved and existing disk allocations can still be writ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s must remove existing files to before new resources can be us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 limits are be enforced as hard limits after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r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s are never applied 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C7DFD-9E7D-4E27-AE77-16B466E01E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5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onfiguring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quotas are enabled as filesystem mount options when the filesystem is moun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orndale AMT;Times New Roman"/>
              </a:rPr>
              <a:t>User, Group and Project quotas are enabled independently. Group and Project quotas are incompat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orndale AMT;Times New Roman"/>
              </a:rPr>
              <a:t>Each quota type can be specified as noenforce, in this case quota reporting will be maintained but not enfor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horndale AMT;Times New Roman"/>
              </a:rPr>
              <a:t>Valid mount options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uquota, uquotanoenforce - User qu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gquota, gquotanoenforce - Group quo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5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pquota, pquotanoenforce - Project 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e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mount -o quota,pquota /dev/hdb1 /media/xfs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Or in fst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horndale AMT;Times New Roman"/>
              </a:rPr>
              <a:t>/dev/hdb1 /media/xfstest xfs defaults,quota,pquota 0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C58AA-5A6E-49B8-B513-D341AE22CF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560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xfs_quota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0">
              <a:lnSpc>
                <a:spcPct val="77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quotas are configured the xfs_quota tool can be used to report on disk usage and set limi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ta operation is controlled by xfs_quo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101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quota has two modes of operation, basic and expert mode (xfs_quota -x). Basic mode includes commands for reporting disk usage to users. Expert mode contains advanced commands that allow the modification of the quota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4DC68-756D-4F0B-8AAD-4AB6E33A3B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Quota Report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quota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quota -xc 'report -h' /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quota on /home (/dev/hdb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ID      Used   Soft   Hard Warn/Grac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-------- --------------------------------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ot         4.6G         0      0  00 [------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user  103.4G      0      0  00 [------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7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report as an ordinary user simply reports that users disk usage while running as root allows the disk usage of all users to be repor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8760" indent="-158760">
              <a:lnSpc>
                <a:spcPct val="97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xfs_quota -xc 'report -h' /ho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m0.287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274680">
              <a:lnSpc>
                <a:spcPct val="77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do du -hs /h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m3.086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8 - Quot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EC6A2-8355-42AA-BFF7-31E3F99083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atz</cp:lastModifiedBy>
  <dcterms:modified xsi:type="dcterms:W3CDTF">2006-10-30T21:51:45Z</dcterms:modified>
  <cp:revision>1</cp:revision>
  <dc:subject/>
  <dc:title>Possible CXFS Administration and Monitoring Interfaces</dc:title>
</cp:coreProperties>
</file>