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86087A-8794-4B1D-A612-8CC5991A9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37680" y="372996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414EEB-7013-417E-BF34-45B0FD2AA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000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1586AE-303F-434D-B56A-2592D5F58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0292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6816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3768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0292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6816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3E59B5-CA15-4B65-A5FF-1606E2C35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355680" y="263520"/>
            <a:ext cx="8447040" cy="30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955EF5-5B92-45C9-8CC6-FDA840C90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8000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7680" y="372996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8000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0292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6816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3768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0292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6816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056223-D4E0-4D32-940D-7F35B8C8E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E934C2-CA53-41A5-8D17-D37C25355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93AF18-CB02-45CD-8B21-D02FF9D79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55680" y="263520"/>
            <a:ext cx="8447040" cy="30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0DD28A-2718-40D1-B5A7-8AB8A6387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14C73B-EA6A-44D0-B91A-F5C43FC54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000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A3D5B2-E9BD-4629-A20C-C88ADDA2B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963D87-D752-434E-9044-A1460FF6D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012000"/>
            <a:ext cx="9144000" cy="0"/>
          </a:xfrm>
          <a:prstGeom prst="line">
            <a:avLst/>
          </a:prstGeom>
          <a:ln w="57240">
            <a:solidFill>
              <a:srgbClr val="44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213760" y="6264360"/>
            <a:ext cx="539640" cy="444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40099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363636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363636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2390400" y="6237360"/>
            <a:ext cx="119052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027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6363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27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63636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3673440" y="6237360"/>
            <a:ext cx="190512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6363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63636"/>
                </a:solidFill>
                <a:latin typeface="Arial"/>
              </a:rPr>
              <a:t>Page </a:t>
            </a:r>
            <a:fld id="{254804DB-F806-4760-9721-2D2812753211}" type="slidenum">
              <a:rPr b="0" lang="en-US" sz="1000" spc="-1" strike="noStrike">
                <a:solidFill>
                  <a:srgbClr val="36363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225520" y="6199200"/>
            <a:ext cx="2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63636"/>
                </a:solidFill>
                <a:latin typeface="Arial"/>
              </a:rPr>
              <a:t>|</a:t>
            </a:r>
            <a:endParaRPr b="0" lang="en-US" sz="1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3537000" y="6199200"/>
            <a:ext cx="19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63636"/>
                </a:solidFill>
                <a:latin typeface="Arial"/>
              </a:rPr>
              <a:t>|</a:t>
            </a:r>
            <a:endParaRPr b="0" lang="en-US" sz="1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ftr" idx="3"/>
          </p:nvPr>
        </p:nvSpPr>
        <p:spPr>
          <a:xfrm>
            <a:off x="323640" y="6237360"/>
            <a:ext cx="192708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484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6363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484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63636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rcRect l="13223" t="9376" r="18457" b="9336"/>
          <a:stretch/>
        </p:blipFill>
        <p:spPr>
          <a:xfrm>
            <a:off x="812880" y="1346040"/>
            <a:ext cx="3819600" cy="38721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6991200" y="0"/>
            <a:ext cx="2148120" cy="6858000"/>
          </a:xfrm>
          <a:prstGeom prst="rect">
            <a:avLst/>
          </a:prstGeom>
          <a:solidFill>
            <a:srgbClr val="44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7486560" y="5400720"/>
            <a:ext cx="1214640" cy="9842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334800" y="423720"/>
            <a:ext cx="3962520" cy="2206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647800" y="2066760"/>
            <a:ext cx="406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63636"/>
                </a:solidFill>
                <a:latin typeface="Arial"/>
              </a:rPr>
              <a:t>Silicon Graphics, Inc.</a:t>
            </a:r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97000" y="2695320"/>
            <a:ext cx="5511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825800" y="569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6363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6363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39480" y="6092640"/>
            <a:ext cx="192708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484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6363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484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63636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63636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  <a:p>
            <a:pPr lvl="1" marL="401760"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300"/>
              </a:spcBef>
              <a:buClr>
                <a:srgbClr val="000000"/>
              </a:buClr>
              <a:buFont typeface="Helvetic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249"/>
              </a:spcBef>
              <a:buClr>
                <a:srgbClr val="000000"/>
              </a:buClr>
              <a:buFont typeface="Helvetic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249"/>
              </a:spcBef>
              <a:buClr>
                <a:srgbClr val="363636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249"/>
              </a:spcBef>
              <a:buClr>
                <a:srgbClr val="363636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4360" y="2695320"/>
            <a:ext cx="6024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XFS Overview &amp; Internals</a:t>
            </a:r>
            <a:br>
              <a:rPr sz="3200"/>
            </a:b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06 - Allocator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150560" y="4743000"/>
            <a:ext cx="557532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XFS Slides 06 - Allocato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32 bit Inodes on &gt;1TB Filesystem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When 32 bit inode numbers are used on a volume larger than 1TB in size, several changes occu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A 100TB volume using 256 byte inodes mounted in the default inode32 mode has just one percent of its space available for allocating inod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XFS will reserve the first 1TB of disk space exclusively for inodes to ensure that the imbalance is no worse than this due to file data allocations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It is no longer possible for file data to reside in the same AG as the parent directory's inod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XFS will instead "rotor" through the upper AGs as it allocates space for files, putting each file in a new AG to evenly spread the I/O loa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6 - Allocato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FC8156-2586-46C7-83F4-4891388D7E1C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Rotor Step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performance of some workloads will suffer from the distribution each file in a different  AG, so the "rotor step" sysctl was added adjust this behavi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example, to keep at least a second of ingested 24fps video files in the same AG before moving to the next AG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# sysctl fs.xfs.rotor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s.xfs.rotorstep =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# sudo sysctl –w fs.xfs.rotorstep=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s.xfs.rotorstep = 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e that the rotorstep value is a global one, so setting it will affect the behaviour of all mounted file systems over 1TB in size that use 32 bit inode numb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6 - Allocato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4EC503-742D-4F1A-A588-DA4C90835D03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Realtime Allocator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Certain classes of applications require deterministic latencies on file allocation oper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The performance of the standard XFS allocator varies depending on the internal data structures used to manage the filesystem cont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The realtime allocator uses a bitmap algorithm that gives consistent allocation latencies regardless of the filesystem's conte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By using the realtime allocator in conjunction with an external log volume, it's possible to remove most of the unpredictability in disk response times that's caused by metadata overhea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6 - Allocato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155ECF-9607-4AA4-9388-83BF5D26818C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Realtime Allocator Limitation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In practice, the realtime allocator is not widely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It effectively uses a single large allocation group with a single set of data structures losing the parallelism of XFS’s allocation grou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The locks associated with this central data structure result in the serialisation of concurrent operations to a realtime dev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The realtime allocator is incapable of maintaining a spatial separation on disk for concurrent oper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It tries to start new files at random points in the bitmap to reduce this problem but this has a negative impact on some workloa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6 - Allocato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29D9E2-CC15-4B76-817D-5DC2D65615C0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Traditional allocator impact on some workload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certain class of applications will write many large files to a directory in sequ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A film scanner ingesting video may write each video frame to a separate file. To playback the video frames in realtime its important that these files are contiguous on disk for optimal read-ahead performance by the hardware RAI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At 24 frames per second, each frame is needed every 40ms, so it is important to keep the disks busy and reading into cache the next frame to be display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6 - Allocato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3392EA-9C8F-405B-898B-AAA324AAB15B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55320" y="263160"/>
            <a:ext cx="2560680" cy="12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Traditional Stream Allocation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38040" y="1628640"/>
            <a:ext cx="2865600" cy="41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Initially each directory is allocated to a separate A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Each stream writes to that AG until it is fu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Additional allocations now go in the next consecutive AG that has enough free spa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Multiple streams will start writing to the same AG, interleaving their files and negating any read-ahe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3276720" y="189000"/>
            <a:ext cx="5591160" cy="5695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6 - Allocato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8036BA-F34A-4AD5-A8A3-43EBD34784B7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40099"/>
                </a:solidFill>
                <a:latin typeface="Arial"/>
              </a:rPr>
              <a:t>RAID performance with interleaved stream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sz="1000" spc="-1" strike="noStrike">
                <a:solidFill>
                  <a:srgbClr val="000000"/>
                </a:solidFill>
                <a:latin typeface="Courier New"/>
              </a:rPr>
              <a:t>System Performance Statistic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sz="1000" spc="-1" strike="noStrike">
                <a:solidFill>
                  <a:srgbClr val="000000"/>
                </a:solidFill>
                <a:latin typeface="Courier New"/>
              </a:rPr>
              <a:t>All Ports     Port 1     Port 2     Port 3     Port 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sz="1000" spc="-1" strike="noStrike">
                <a:solidFill>
                  <a:srgbClr val="000000"/>
                </a:solidFill>
                <a:latin typeface="Courier New"/>
              </a:rPr>
              <a:t>Read  MB/s:      183.9       45.8       46.8       46.3       45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sz="1000" spc="-1" strike="noStrike">
                <a:solidFill>
                  <a:srgbClr val="000000"/>
                </a:solidFill>
                <a:latin typeface="Courier New"/>
              </a:rPr>
              <a:t>Write MB/s:        0.0        0.0        0.0        0.0        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sz="1000" spc="-1" strike="noStrike">
                <a:solidFill>
                  <a:srgbClr val="000000"/>
                </a:solidFill>
                <a:latin typeface="Courier New"/>
              </a:rPr>
              <a:t>Total MB/s:      183.9       45.8       46.8       46.3       45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sz="1000" spc="-1" strike="noStrike">
                <a:solidFill>
                  <a:srgbClr val="000000"/>
                </a:solidFill>
                <a:latin typeface="Courier New"/>
              </a:rPr>
              <a:t>Read  IO/s:        520        133        129        129        12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sz="1000" spc="-1" strike="noStrike">
                <a:solidFill>
                  <a:srgbClr val="000000"/>
                </a:solidFill>
                <a:latin typeface="Courier New"/>
              </a:rPr>
              <a:t>Write IO/s:          0          0          0          0          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sz="1000" spc="-1" strike="noStrike">
                <a:solidFill>
                  <a:srgbClr val="000000"/>
                </a:solidFill>
                <a:latin typeface="Courier New"/>
              </a:rPr>
              <a:t>Total IO/s:        522        134        131        128        12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sz="1000" spc="-1" strike="noStrike">
                <a:solidFill>
                  <a:srgbClr val="000000"/>
                </a:solidFill>
                <a:latin typeface="Courier New"/>
              </a:rPr>
              <a:t>Read Hits:         1.3%       1.6%       2.2%       0.6%       0.6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sz="1000" spc="-1" strike="noStrike">
                <a:solidFill>
                  <a:srgbClr val="000000"/>
                </a:solidFill>
                <a:latin typeface="Courier New"/>
              </a:rPr>
              <a:t>Prefetch Hits:     0.8%       1.1%       1.1%       0.6%       0.6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sz="1000" spc="-1" strike="noStrike">
                <a:solidFill>
                  <a:srgbClr val="000000"/>
                </a:solidFill>
                <a:latin typeface="Courier New"/>
              </a:rPr>
              <a:t>Prefetches:       46.3%      46.3%      46.0%      46.1%      46.8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sz="1000" spc="-1" strike="noStrike">
                <a:solidFill>
                  <a:srgbClr val="000000"/>
                </a:solidFill>
                <a:latin typeface="Courier New"/>
              </a:rPr>
              <a:t>Writebacks:        0.0%       0.0%       0.0%       0.0%       0.0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sz="1000" spc="-1" strike="noStrike">
                <a:solidFill>
                  <a:srgbClr val="000000"/>
                </a:solidFill>
                <a:latin typeface="Courier New"/>
              </a:rPr>
              <a:t>Rebuild MB/s:      0.0        0.0        0.0        0.0        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sz="1000" spc="-1" strike="noStrike">
                <a:solidFill>
                  <a:srgbClr val="000000"/>
                </a:solidFill>
                <a:latin typeface="Courier New"/>
              </a:rPr>
              <a:t>Verify MB/s:       0.0        0.0        0.0        0.0        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sz="1000" spc="-1" strike="noStrike">
                <a:solidFill>
                  <a:srgbClr val="000000"/>
                </a:solidFill>
                <a:latin typeface="Courier New"/>
              </a:rPr>
              <a:t>Total      Reads     Writes      Pieces   Reads     Wri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sz="1000" spc="-1" strike="noStrike">
                <a:solidFill>
                  <a:srgbClr val="000000"/>
                </a:solidFill>
                <a:latin typeface="Courier New"/>
              </a:rPr>
              <a:t>Disk IO/s:          518        518          0        1:      4910          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sz="1000" spc="-1" strike="noStrike">
                <a:solidFill>
                  <a:srgbClr val="000000"/>
                </a:solidFill>
                <a:latin typeface="Courier New"/>
              </a:rPr>
              <a:t>Disk MB/s:        544.6      544.6        0.0        2:     29890          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sz="1000" spc="-1" strike="noStrike">
                <a:solidFill>
                  <a:srgbClr val="000000"/>
                </a:solidFill>
                <a:latin typeface="Courier New"/>
              </a:rPr>
              <a:t>Disk Pieces:      65710      65710          0        3:       340          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sz="1000" spc="-1" strike="noStrike">
                <a:solidFill>
                  <a:srgbClr val="000000"/>
                </a:solidFill>
                <a:latin typeface="Courier New"/>
              </a:rPr>
              <a:t>BDB Pieces:                      0                   4:         0          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</a:t>
            </a:r>
            <a:r>
              <a:rPr b="0" sz="1000" spc="-1" strike="noStrike">
                <a:solidFill>
                  <a:srgbClr val="000000"/>
                </a:solidFill>
                <a:latin typeface="Courier New"/>
              </a:rPr>
              <a:t>5:         0          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sz="1000" spc="-1" strike="noStrike">
                <a:solidFill>
                  <a:srgbClr val="000000"/>
                </a:solidFill>
                <a:latin typeface="Courier New"/>
              </a:rPr>
              <a:t>Cache Writeback Data:     0.0%                      6:         0          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sz="1000" spc="-1" strike="noStrike">
                <a:solidFill>
                  <a:srgbClr val="000000"/>
                </a:solidFill>
                <a:latin typeface="Courier New"/>
              </a:rPr>
              <a:t>Rebuild/Verify Data:      0.0%    0.0%              7:         0          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sz="1000" spc="-1" strike="noStrike">
                <a:solidFill>
                  <a:srgbClr val="000000"/>
                </a:solidFill>
                <a:latin typeface="Courier New"/>
              </a:rPr>
              <a:t>Cache Data locked:        0.0%                      8:         0          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084720" y="1413000"/>
            <a:ext cx="2374920" cy="1739880"/>
          </a:xfrm>
          <a:prstGeom prst="rect">
            <a:avLst/>
          </a:prstGeom>
          <a:noFill/>
          <a:ln w="9360">
            <a:solidFill>
              <a:srgbClr val="3636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63636"/>
                </a:solidFill>
                <a:latin typeface="Arial"/>
              </a:rPr>
              <a:t>With only 1.3% read cache hits, RAID is reading </a:t>
            </a:r>
            <a:r>
              <a:rPr b="1" lang="en-US" sz="1800" spc="-1" strike="noStrike">
                <a:solidFill>
                  <a:srgbClr val="363636"/>
                </a:solidFill>
                <a:latin typeface="Arial"/>
              </a:rPr>
              <a:t>545MB/s</a:t>
            </a:r>
            <a:r>
              <a:rPr b="0" lang="en-US" sz="1800" spc="-1" strike="noStrike">
                <a:solidFill>
                  <a:srgbClr val="363636"/>
                </a:solidFill>
                <a:latin typeface="Arial"/>
              </a:rPr>
              <a:t> to return 184MB/s to the client (200% backend overhead)</a:t>
            </a:r>
            <a:endParaRPr b="0" lang="en-US" sz="18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92360" y="4221000"/>
            <a:ext cx="936720" cy="50328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763640" y="2852640"/>
            <a:ext cx="792360" cy="43344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692360" y="1628640"/>
            <a:ext cx="792000" cy="43344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6 - Allocato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9C7F33-AD34-4CFC-AFDD-EC0E7DF03896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Filestreams Allocator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A new allocation algorithm was added to XFS that associates a parent directory with an AG until a preset inactivity timeout elaps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Not in SLES10, planned for SLES10SP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A stream that moves to a new AG will cause that AG to be locked, so other streams looking for a new AG will not use the same A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The new algorithm is called the Filestreams allocator and it is enabled in one of two way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the filesystem is mounted with the -o filestreams option, 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the filestreams chattr flag is applied to a directory to indicate that all allocations beneath that point in the directory hierarchy should use the filestreams alloc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Filestreams will have a negative impact on workloads that continue to grow files in the same directory, causing more fragmentation than the default alloc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6 - Allocato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33257F-730E-4D28-977A-679DC3BD621E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40099"/>
                </a:solidFill>
                <a:latin typeface="Arial"/>
              </a:rPr>
              <a:t>RAID performance with filestream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System Performance Statistic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All Ports     Port 1     Port 2     Port 3     Port 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Read  MB/s:      299.1       74.0       74.7       75.1       75.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Write MB/s:        0.0        0.0        0.0        0.0        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Total MB/s:      299.1       74.0       74.7       75.1       75.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Read  IO/s:        840        209        210        211        2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Write IO/s:          0          0          0          0          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Total IO/s:        836        209        210        208        2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Read Hits:        99.5%      98.3%      99.6%     100.0%     100.0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Prefetch Hits:    98.8%      97.6%      98.9%      99.6%      99.0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Prefetches:       42.0%      41.5%      42.0%      42.9%      41.7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Writebacks:        0.0%       0.0%       0.0%       0.0%       0.0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Rebuild MB/s:      0.0        0.0        0.0        0.0        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Verify MB/s:       0.0        0.0        0.0        0.0        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Total      Reads     Writes      Pieces   Reads     Wri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Disk IO/s:          614        614          0        1:     39068          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Disk MB/s:        345.5      345.5        0.0        2:       111          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Disk Pieces:      39290      39290          0        3:         0          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BDB Pieces:                      0                   4:         0          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5:         0          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Cache Writeback Data:     0.0%                      6:         0          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Rebuild/Verify Data:      0.0%    0.0%              7:         0          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Cache Data locked:        0.0%                      8:         0          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156360" y="1413000"/>
            <a:ext cx="2303280" cy="1465560"/>
          </a:xfrm>
          <a:prstGeom prst="rect">
            <a:avLst/>
          </a:prstGeom>
          <a:noFill/>
          <a:ln w="9360">
            <a:solidFill>
              <a:srgbClr val="3636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363636"/>
                </a:solidFill>
                <a:latin typeface="Arial"/>
              </a:rPr>
              <a:t>Almost all data now found in RAID cache, only 15% backend disk I/O overhead</a:t>
            </a:r>
            <a:endParaRPr b="0" lang="en-US" sz="18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92360" y="1628640"/>
            <a:ext cx="792000" cy="43344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763640" y="2852640"/>
            <a:ext cx="792360" cy="43344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692360" y="4221000"/>
            <a:ext cx="936720" cy="50328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6 - Allocato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296056-DABC-4735-B38F-05CEA2BFC7B5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Fragmentation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fs_db -r /dev/sda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ag -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le fragmentation percent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ag -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fragmentation percent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eesp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eespa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6 - Allocato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5A2653-4696-4A7F-8249-2C0CE5BBCE1D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Allocation Policy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The default allocation behaviour of XFS for new files is to place them in the same allocation group as their parent director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Since files and their parent directories are often accessed in close succession, this minimises costly disk seek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The allocator will also attempt to place newly created directories in different allocation group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Combined, these policies help group directories of files together on disk, even if they're being written to concurrent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Allocation policies in XFS can change due 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32 bit inode numbers are used on large file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Some mount op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6 - Allocato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E8645C-212B-4D76-BE12-A0DBF6C4BE1A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Fragmentation Example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171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gt; xfs_db –r d</a:t>
            </a:r>
            <a:r>
              <a:rPr b="0" i="1" lang="en-US" sz="1400" spc="-1" strike="noStrike">
                <a:solidFill>
                  <a:srgbClr val="000000"/>
                </a:solidFill>
                <a:latin typeface="Courier New"/>
              </a:rPr>
              <a:t>e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xfs_db: frees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rom      to extents  blocks    p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1       1   94807   94807   1.3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2       3   63041  145012   2.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4       7   30374  152890   2.1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8      15   19437  207742   2.9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16      31   15173  331559   4.7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32      63   14099  636086   9.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64     127   16804 1497220  21.4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128     255    8390 1470464  21.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256     511    3003 1033383  14.8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512    1023     810  551813   7.9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1024    2047     258  370811   5.3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2048    4095     101  282202   4.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4096    8191      27  145550   2.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xfs_db: frag -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actual 45966, ideal 12398, fragmentation factor 73.03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xfs_db: frag -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actual 2104856, ideal 2100484, fragmentation factor 0.21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6 - Allocato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843A92-7D0E-4C66-A3FF-72EE68C7F92A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xfs_fsr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6 - Allocato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4CB41F-F30E-4D29-934C-BF348DA4AB78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2057400" y="1295280"/>
            <a:ext cx="4813200" cy="3846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6 - Allocator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989929-1D3D-42B3-8DB8-01CEDE704614}" type="slidenum">
              <a:t>2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Allocation Policy - Directorie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New directories are placed in different AGs where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Watch the inode numbers as directory inodes are create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ourier New"/>
              </a:rPr>
              <a:t>&gt; mkdir a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ourier New"/>
              </a:rPr>
              <a:t>&gt; ls -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ourier New"/>
              </a:rPr>
              <a:t>total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AU" sz="1800" spc="-1" strike="noStrike">
                <a:solidFill>
                  <a:srgbClr val="000000"/>
                </a:solidFill>
                <a:latin typeface="Courier New"/>
              </a:rPr>
              <a:t>131 drwxr-xr-x 2 sjv users 6 2006-10-20 12:12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ourier New"/>
              </a:rPr>
              <a:t>33554624 drwxr-xr-x 2 sjv users 6 2006-10-20 12:12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6 - Allocato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5DAB21-DFBB-4AD2-8057-D2E24619114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Allocation Policy - File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Files are created in the same AG as their parent directory where possible, which is also evident in their inode number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Courier New"/>
              </a:rPr>
              <a:t>&gt; touch a/1 b/1 a/2 b/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Courier New"/>
              </a:rPr>
              <a:t>&gt; ls -1id * */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AU" sz="1600" spc="-1" strike="noStrike">
                <a:solidFill>
                  <a:srgbClr val="000000"/>
                </a:solidFill>
                <a:latin typeface="Courier New"/>
              </a:rPr>
              <a:t>131 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AU" sz="1600" spc="-1" strike="noStrike">
                <a:solidFill>
                  <a:srgbClr val="000000"/>
                </a:solidFill>
                <a:latin typeface="Courier New"/>
              </a:rPr>
              <a:t>132 a/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AU" sz="1600" spc="-1" strike="noStrike">
                <a:solidFill>
                  <a:srgbClr val="000000"/>
                </a:solidFill>
                <a:latin typeface="Courier New"/>
              </a:rPr>
              <a:t>133 a/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Courier New"/>
              </a:rPr>
              <a:t>33554624 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Courier New"/>
              </a:rPr>
              <a:t>33554625 b/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Courier New"/>
              </a:rPr>
              <a:t>33554626 b/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6 - Allocato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DF214C-AD9B-49E0-A320-03241D0C3ED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Inode Number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ery inode on disk has a unique inode number associated with it.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is a requirement that inode numbers be persistent across unmounts and reboots, so once an inode is written to disk its inode number is fix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performance reasons it must be possible to quickly find an inode on disk using its inode number.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FS uses the physical location of the inode on disk to encode the inode number, which makes finding the inode on disk using the inode number a trivial task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6 - Allocato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F2C3FD-2C76-4C40-8986-E9E33B84F3E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Inode Number Format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 inode's location consists of three distinct pa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 allocation group numb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file system block number within its A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 inode number inside that file system blo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number of bits required to store each of these values varies with the filesystem geome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Larger filesystems can easily require more than 32 bits, which can limit inode allocation to a region at the start of the vol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6 - Allocato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CA0E8E-A12D-4EF6-986C-1F988F95500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Inode Number Size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e systems aren't free to use inode numbers of arbitrary siz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rating system interfaces and legacy software products often mandate the use of 32 bit inode numbers even on systems that support 64 bit inode numb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can be a problem on large file systems, since 32 bit inode numbers only provide enough bits to encode inode locations in the first 1TB of a volume when 256 byte inodes are used, up to 8TB in the case of 2kB inodes.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best performance, a file system needs to keep a file's data blocks close to its inode to minimise seeks when performing I/O.  XFS's ability to do this suffers on large volumes when 32 bit inode numbers ar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6 - Allocato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A2164A-ED8E-470A-BE09-0A24CD97157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32bit and 64bit Inode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y default, XFS will use 32 bit inode numb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the system supports it, the -o inode64 option to mount to allow 64 bit inode numbers.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ce an inode has been written somewhere on the disk that requires a 64 bit inode number, the file system can no longer be used with 32 bit inode numb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The inode64 mount option should not be removed once us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(IRIX can move inodes to 32 bit numbers with </a:t>
            </a:r>
            <a:r>
              <a:rPr b="0" lang="en-AU" sz="1800" spc="-1" strike="noStrike">
                <a:solidFill>
                  <a:srgbClr val="000000"/>
                </a:solidFill>
                <a:latin typeface="Courier New"/>
              </a:rPr>
              <a:t>xfs_reno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, this tool has not been ported to Linux, ye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6 - Allocato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F27498-D2CA-4C45-A53E-AFB4507CB9FF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32bit and 64bit Inode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ode numbers are stored in big endian format on disk, and host endian format in-core.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lications that pass 64 bit inode numbers using 32 bit variables will truncate the 32 most-significant bi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nce XFS stores the AG number an inode belongs to in the most significant bits, a result of this truncation can be an inode number that points to an inode in a lower AG by mistake.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ing that inode number will result in either a lookup on the incorrect inode, or the referencing of an area on disk that doesn't contain inodes at all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6 - Allocato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BB6CF1-2703-4ABF-8757-755356F5BAE7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7T10:54:15Z</dcterms:created>
  <dc:creator>David Chatterton</dc:creator>
  <dc:description/>
  <dc:language>en-US</dc:language>
  <cp:lastModifiedBy>chatz</cp:lastModifiedBy>
  <dcterms:modified xsi:type="dcterms:W3CDTF">2006-10-30T19:58:26Z</dcterms:modified>
  <cp:revision>354</cp:revision>
  <dc:subject/>
  <dc:title>Possible CXFS Administration and Monitoring Interfaces</dc:title>
</cp:coreProperties>
</file>