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27971-11D6-4D54-B895-0209B797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9D26-1AD2-4DD6-B455-809CD53A3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A1CD5-1B3F-4B8F-BDAF-D24C33C37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1ECF1-1253-48CA-9093-9CF893A81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0399-5A93-4134-89B2-19B203060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865B-E46F-4ACF-AEB7-BB3FFADB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D0CC9-2027-4423-9752-C2B237EF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66E6A-551A-4F51-A147-5E8115BA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7466-3405-4323-A5B7-49F0CBC0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5FDF-B2EE-4239-AA1C-0B8D86B6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FB57-0E9C-47ED-B1E1-E177BD3E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52E43-7FAD-4755-A33B-2BED2B10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650AABDD-92B7-4140-8F98-AF27A0122930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6 - Volume Manag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and Volume Manag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 with md, device mapper, software r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52798-278F-405D-A274-268250FCCD9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6 - Volume Manage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4B4FB-2FC7-4333-A975-946BC82EC419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7:40Z</dcterms:modified>
  <cp:revision>331</cp:revision>
  <dc:subject/>
  <dc:title>Possible CXFS Administration and Monitoring Interfaces</dc:title>
</cp:coreProperties>
</file>