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3F66A-5D60-4345-9C26-197C4717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D95E6-AA7C-4E2A-AFAB-9918C9096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CA145-8393-4E7A-B823-7E96CFFDA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D50AD-57B0-46D9-8849-11592818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7C1BE-3A02-4845-B1D6-6D85F62C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6639B-5099-4994-A546-BC126A18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78791-6610-414C-9FDA-51D41EC4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2CA3F-6087-4AB2-BD91-75652B1E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2BD5B-E2A0-4CE8-8FB6-57FAF778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93EA1-E320-421C-B8C5-009FE68A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A2A85-6981-4D0C-9203-677B89BF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A1D2A-C24A-4DC8-9FE9-EDB2AE1E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16DE8AA5-348B-448E-999C-D4CF0BC60CF3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7 – Extended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Extended Attribut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ended Attributes (EA) are a set of &lt;name,value&gt; pairs associated with an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o uses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ss Control Lists (AC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agle index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ame is a null terminated string &lt;= 255 ch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alue is binary data &lt;= 64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9A739-FC23-4184-9F23-07927243823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Namespac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EA set is typically divided into namesp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Linux the namespace is the prefix of the EA na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us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XFS, the namespace is encoded in bits in a flags field with these val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7972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r” has value of 0x0000 – by default an attribute is in the user name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define ATTR_ROOT       0x0002  /* use attrs in root (trusted) namespa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define ATTR_SECURE     0x0008  /* use attrs in security namespa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define ATTR_SYSTEM     0x0100  /* use attrs in system (pseudo) namespac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o for XFS, EAs are really a triple &lt;name, value, flag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6385B-0CCC-4325-B3F3-4176D47941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Command Line Interfac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r package maintained by Andreas Gruenbacher and S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tfattr(1) for getting/listing 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tfattr(1) for setting and removing EA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mes are prefixed with the name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r command sets/removes/gets/lists 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sed on IRIX command, provides common interface for XFS 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mespace specified with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re closely models what XFS actually stores since names are the actual n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getfattr -e hex -dm '.*' fil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posix_acl_access=0x0200000001000600ffffffff040006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rusted.SGI_ACL_FILE=0x0000000400000001ffffffff0006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attr -Rl fil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ttribute "SGI_ACL_FILE" has a 52 byte value for file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ABDC3-6B16-4B4E-946B-8372B3B79E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Ondisk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ame can actually be binary data since it has a length field 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XFS kernel functions have been changed to handle binary names (used for future parent pointer EA'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FS EA's are stored in a variety of forms according to how big they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al or short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thin the in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tribute-fork extents in ei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filesystem leaf 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tree form with node blocks and leaf bl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tent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EA value can be in a remote filesystem block if it's lar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176B6-7354-4C86-8B34-5B0238D0AF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Tunin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using ACLs, every file access will require an EA loo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performance, it is important to keep the EA's within the inode in shor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ly a single filesystem block needs to be read 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Ls are a good example where the access checks occur frequent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increase the chance of being in shor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crease the inode size, and/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able attr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kfs.xfs –i size=512,attr=2 </a:t>
            </a:r>
            <a:r>
              <a:rPr b="0" i="1" lang="en-GB" sz="1800" spc="-1" strike="noStrike">
                <a:solidFill>
                  <a:srgbClr val="000000"/>
                </a:solidFill>
                <a:latin typeface="Courier New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hort-form EA resides at the end of the inode and competes for space with the data ext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83FE5-3395-43BB-98B3-C12743A12F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and Attr2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r2 overcomes a restriction in the initial EA implementation that divided up the literal area at a fixed location (fork offs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attr2 the fork offset i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1476360" y="3284640"/>
            <a:ext cx="5827680" cy="1827000"/>
            <a:chOff x="1476360" y="3284640"/>
            <a:chExt cx="5827680" cy="1827000"/>
          </a:xfrm>
        </p:grpSpPr>
        <p:sp>
          <p:nvSpPr>
            <p:cNvPr id="105" name=""/>
            <p:cNvSpPr/>
            <p:nvPr/>
          </p:nvSpPr>
          <p:spPr>
            <a:xfrm>
              <a:off x="1476360" y="3284640"/>
              <a:ext cx="5827680" cy="1827000"/>
            </a:xfrm>
            <a:prstGeom prst="roundRect">
              <a:avLst>
                <a:gd name="adj" fmla="val 8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33200" y="3625560"/>
              <a:ext cx="125676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21430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core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31400" y="4538880"/>
              <a:ext cx="125712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21430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core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89960" y="3625560"/>
              <a:ext cx="182808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21430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u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18400" y="3625560"/>
              <a:ext cx="182808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214308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a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89960" y="3739320"/>
              <a:ext cx="914040" cy="342720"/>
            </a:xfrm>
            <a:prstGeom prst="rightArrow">
              <a:avLst>
                <a:gd name="adj1" fmla="val 50000"/>
                <a:gd name="adj2" fmla="val 66675"/>
              </a:avLst>
            </a:prstGeom>
            <a:solidFill>
              <a:srgbClr val="ded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18400" y="3739320"/>
              <a:ext cx="914040" cy="342720"/>
            </a:xfrm>
            <a:prstGeom prst="rightArrow">
              <a:avLst>
                <a:gd name="adj1" fmla="val 50000"/>
                <a:gd name="adj2" fmla="val 66675"/>
              </a:avLst>
            </a:prstGeom>
            <a:solidFill>
              <a:srgbClr val="ded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89960" y="4538880"/>
              <a:ext cx="3656520" cy="570600"/>
            </a:xfrm>
            <a:prstGeom prst="rect">
              <a:avLst/>
            </a:prstGeom>
            <a:solidFill>
              <a:srgbClr val="f2f2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6000"/>
                </a:lnSpc>
                <a:spcAft>
                  <a:spcPts val="99"/>
                </a:spcAft>
                <a:tabLst>
                  <a:tab algn="l" pos="0"/>
                  <a:tab algn="r" pos="1938240"/>
                  <a:tab algn="l" pos="2171880"/>
                  <a:tab algn="l" pos="2895480"/>
                  <a:tab algn="l" pos="36194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u</a:t>
              </a: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	</a:t>
              </a:r>
              <a:r>
                <a:rPr b="0" lang="en-GB" sz="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i_a</a:t>
              </a:r>
              <a:endParaRPr b="0" lang="en-US" sz="8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89960" y="4653000"/>
              <a:ext cx="914040" cy="342720"/>
            </a:xfrm>
            <a:prstGeom prst="rightArrow">
              <a:avLst>
                <a:gd name="adj1" fmla="val 50000"/>
                <a:gd name="adj2" fmla="val 66675"/>
              </a:avLst>
            </a:prstGeom>
            <a:solidFill>
              <a:srgbClr val="ded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32440" y="4653000"/>
              <a:ext cx="914040" cy="342720"/>
            </a:xfrm>
            <a:prstGeom prst="leftArrow">
              <a:avLst>
                <a:gd name="adj1" fmla="val 50000"/>
                <a:gd name="adj2" fmla="val 66675"/>
              </a:avLst>
            </a:prstGeom>
            <a:solidFill>
              <a:srgbClr val="ded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3200" y="3396960"/>
              <a:ext cx="11426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5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"attr1" growth:</a:t>
              </a:r>
              <a:endParaRPr b="0" lang="en-US" sz="10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33200" y="4310640"/>
              <a:ext cx="114264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5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"attr2" growth:</a:t>
              </a:r>
              <a:endParaRPr b="0" lang="en-US" sz="10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4432680" y="3335040"/>
              <a:ext cx="1256760" cy="226800"/>
              <a:chOff x="4432680" y="3335040"/>
              <a:chExt cx="1256760" cy="226800"/>
            </a:xfrm>
          </p:grpSpPr>
          <p:sp>
            <p:nvSpPr>
              <p:cNvPr id="118" name=""/>
              <p:cNvSpPr/>
              <p:nvPr/>
            </p:nvSpPr>
            <p:spPr>
              <a:xfrm>
                <a:off x="4432680" y="3335040"/>
                <a:ext cx="1254960" cy="226800"/>
              </a:xfrm>
              <a:prstGeom prst="wedgeRectCallout">
                <a:avLst>
                  <a:gd name="adj1" fmla="val -3611"/>
                  <a:gd name="adj2" fmla="val 127777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6363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432680" y="3335040"/>
                <a:ext cx="1256760" cy="22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spcAft>
                    <a:spcPts val="99"/>
                  </a:spcAft>
                  <a:tabLst>
                    <a:tab algn="l" pos="0"/>
                    <a:tab algn="r" pos="21430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Fixed di_forkoff</a:t>
                </a:r>
                <a:endParaRPr b="0" lang="en-US" sz="800" spc="-1" strike="noStrike">
                  <a:solidFill>
                    <a:srgbClr val="363636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3075840" y="3625560"/>
              <a:ext cx="1080" cy="57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75840" y="4538880"/>
              <a:ext cx="1080" cy="57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32440" y="4538880"/>
              <a:ext cx="1440" cy="570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63636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5366160" y="4258080"/>
              <a:ext cx="1256760" cy="226440"/>
              <a:chOff x="5366160" y="4258080"/>
              <a:chExt cx="1256760" cy="226440"/>
            </a:xfrm>
          </p:grpSpPr>
          <p:sp>
            <p:nvSpPr>
              <p:cNvPr id="124" name=""/>
              <p:cNvSpPr/>
              <p:nvPr/>
            </p:nvSpPr>
            <p:spPr>
              <a:xfrm>
                <a:off x="5366160" y="4259520"/>
                <a:ext cx="1256760" cy="225000"/>
              </a:xfrm>
              <a:prstGeom prst="wedgeRectCallout">
                <a:avLst>
                  <a:gd name="adj1" fmla="val -5657"/>
                  <a:gd name="adj2" fmla="val 183888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71785" dir="270000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6363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66160" y="4258080"/>
                <a:ext cx="1256760" cy="22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96000"/>
                  </a:lnSpc>
                  <a:spcAft>
                    <a:spcPts val="99"/>
                  </a:spcAft>
                  <a:tabLst>
                    <a:tab algn="l" pos="0"/>
                    <a:tab algn="r" pos="214308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Moving di_forkoff</a:t>
                </a:r>
                <a:endParaRPr b="0" lang="en-US" sz="800" spc="-1" strike="noStrike">
                  <a:solidFill>
                    <a:srgbClr val="36363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98C84-D5FD-44EE-A860-B851164228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A and Backup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pio and tar do not backup and restore extended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f using extended attributes, an EA backup tool like xfsdump and xfsrestore must b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159AC-6FF8-410F-9722-7DAE16A26C7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7 - Extended Attribute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F976B-E28D-4E3B-B0D4-FD2F4DDE326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59:40Z</dcterms:modified>
  <cp:revision>333</cp:revision>
  <dc:subject/>
  <dc:title>Possible CXFS Administration and Monitoring Interfaces</dc:title>
</cp:coreProperties>
</file>