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E7E3C-C757-4D80-93BB-011C9865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42624-D9FB-46AF-AA85-2C59C2C1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49434-14EC-434E-9E3C-E2BC92C55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D2361-145F-4A8D-B295-F21C783D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F4400-F5C3-401D-8CA2-5380F5C9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339A7-2AED-43FC-B4CA-CDBE2D21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F5861-E89B-40E5-BA0C-965CC720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9CEC1-0557-48D3-BA0B-EC3C6654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9BD67-9D4C-4116-9A8F-F3636996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D908A-4E74-4D23-BB61-E340B85B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B24CE-5696-4281-B303-DBB6BC02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FDB0E-8414-4308-AF81-377D6AF8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029CAED8-8792-4141-AAEE-59C3E72F656E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10 - Q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10 - Q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QA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Incorporate Nathan’s stuff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0 - Q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95105-A13E-40CA-B515-6859875A8C7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QA Kernel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ktrace, strace, ltr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kd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ckche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ic kernel debug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AB, PAGE_ALLOC, SPINLOCKS, MUTE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EM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debug (assert, runtime chec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tracing option (event hist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error injection option (xfs_io “inject”, fsstr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0 - Q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60597-E18C-413B-AE02-2F45A30B98B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QA Large Filesyste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always lack hardware to test the high end of filesystem size, inode count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se large sparse files for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d to allocation group size ch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kfs -dfile,name=/tmp/x,size=1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 -o loop /tmp/x /mnt/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tests/tools/ag-wi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xfs_db to mark some AG's as “full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 in QA (check/repair issu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repair undergoing surg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be done all we can with this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0 - Q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9CAF2-136A-4A29-A167-037F506CBB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10 - QA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5A8BB-DFEB-4917-9E2A-E012293D6243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3:27Z</dcterms:modified>
  <cp:revision>338</cp:revision>
  <dc:subject/>
  <dc:title>Possible CXFS Administration and Monitoring Interfaces</dc:title>
</cp:coreProperties>
</file>