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38FE-8A82-4056-9868-B0A8C3286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melbourne.sgi.com/dmf_and_friends/internals/DMAP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8930E-9471-486E-BE46-4D6EC24D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A5E7F-64DA-4ACA-A1B0-0FF33214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9C09D-EFAF-4795-B307-DD965EC9F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E3C3B-A677-438E-BD32-025FC693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4A141-2AD0-4A01-A601-EDEF793C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6E152-A160-41E4-BEF2-7C9EE1C9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516CB-60DC-4F41-9655-612DAEC2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A5CB3-F295-4782-ABB4-CF81A1C4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CB083-2AFA-42AC-AC6D-4032FAF7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A57D1-0545-42D3-9056-017956E2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72DC4-A3B1-4523-B215-87ED9976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3316A-63F9-4B5C-B672-9374DAA8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A6A0BD8E-793B-4DC5-B0D6-08588F7CB6C2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pengroup.org/pubs/catalog/c429.htm" TargetMode="External"/><Relationship Id="rId2" Type="http://schemas.openxmlformats.org/officeDocument/2006/relationships/hyperlink" Target="http://www.csu.edu.au/special/auugwww96/proceedings/alex/alex.htm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2 - DMAP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Filesystem Admi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is about to be moun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is about to unmou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unmount succeeded/fail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system has run out of spa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implemented by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b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ode has been read from dis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3EAF8-2A6C-4A37-84DB-E9F4DB1F764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Namespac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/post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file or directo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/postrem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link a filesystem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/postr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ame a filesystem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/post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ard) link a filesystem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link/postsym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syml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2A1D4-6C43-4FED-BA9E-AEBA1C65CDD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Da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pecified file byte range is about to be rea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pecified file byte range is about to be writ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is about to be truncated to the specified address (away from or towards zero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079A4-281C-4E3A-8BB8-16D101BDFA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vents - Metada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object's attribute has chang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system object has been destroy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implemented by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c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reviously issued event is cancell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ilesystem object has been clo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A1FA4-2554-46DB-BC1B-D6ABF4B74A1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Events - Pseudo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ev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essage between cooperating DMAPI proces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8BE54-70B3-4C39-B7CE-83DA15B4112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essions and Disposi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 uses sessions as the primary communication channels between DM application and the kernel component of 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ost all DMAPI calls require a session argu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ssions and event lists allow DM application to exercise a fine control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event delivery and gen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s may direct different event types to different sessions and avoid session overloa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sitions indicate which event types should be delivered to this ses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M application creates a session by calling dm_open_session() and then may register event dispositions for this session by calling dm_set_disp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45EC6-D1A7-4D19-B200-8537354DF0E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onnecting Events with Sess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esired events to be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eventlist_t 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by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per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by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trigger mount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set disposition of those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ipient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93448-DDCC-4C4D-9158-B74A0C23B8D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onnecting Events -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ev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list of enabled events for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ev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list of enabled events for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di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disposition of events on a filesystem to a particular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return_on_destr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y a DMAPI attribute to return with destroy ev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2C098-92E5-47CD-BEB3-E1E5737715B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Managing Sessions - DMAPI functions 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create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new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query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y a session for inform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destroy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roy the specified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all extant se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9CB80-029B-43CF-A577-3639AFCB50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Processing Events -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next available event messa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respond-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d to one 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ify FS of slow application 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create_user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a user pseudo-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nd_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 message to indicated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move_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 event to another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EFA9E-02B4-4D39-B27D-F96A324E91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DMAPI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gem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lica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ramm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by Data Management Interfaces Group consortium (DMIG), 1993-199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standardized access to filesystems for Hierarchical Storage Managers (HSMs) and backup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MAPI in SLES is used by vendors other than just S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1607B-02CC-4A7A-9EDC-B65A950C2AC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ession Recover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se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all extant sess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query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ry a session for inf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create_s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/assume a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tok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outstanding tokens for a sess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find_event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message for an 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di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event dispositions for all filesystems for a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F2F0D-802F-4B8A-8C0C-9450CECA554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anaged Reg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naged regions is the mechanism for an application to control file data access at a granularity level less than file size. It is an extent in the logical fil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in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 generation flag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byte-granularity events for all accesses/modifications of a file's 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apply to file obje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 non-overlapping byte ranges in a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ly detect reads, writes, trunca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ne, persistent in X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42396-7640-4791-B952-93858DBA6B3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anaged Regions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managed regions for a 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managed regions for a 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34351-52D7-467F-AF2E-528D4639AAC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 Access and Modifi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not change mtime or atime (ctime chang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DO: B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not 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not generate e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00AF8-3D56-418F-B11B-1CC4521B6D3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 Access and Modification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robe_h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rounded result of the area where a hole is to be punch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unch_h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a hole in a fi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read_in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 a file bypassing DMAPI ev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write_inv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rite a file bypassing ev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sync_by_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c a file's data to dis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get_fileat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file attribu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set_fileatt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t file time stamps, ownership, mode, length, et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get_alloc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 allocation info for a fi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492D4-D81F-489D-A619-F1385955BE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ersistent DMAPI Da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d per file as SGI_DMI_xxx extended attrib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istent across rebo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F stores in SGI_DMI_DMF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fid, file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inf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s should be 512 bytes (-i size=51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7CD1E-4071-429C-81F0-B4E0A5725AF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ersistent DMAPI Data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e a DMAPI attrib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set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/replace a DMAPI attrib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remove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 a DMAPI attrib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all_dm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rieve all DMAPI attributes for a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98B1E-6CD8-4EF3-B8E9-1DB5D08BFD1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canning Filesystems Quickl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init_attr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e a bulk attribute location offs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get_bulkat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bulk attributes for entire filesys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mplemented by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get_bulk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data management attributes for entire file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17968-DA36-40C0-84A5-7865487890C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igh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 applications use the tokens to obtain access rights to file system objects to guarantee stability of th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session to control access/upd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for atomic updates over many fun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rights may b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a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d right allows read-only access (DM_RIGHT_SHAR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lusive right allows modification to the object (DM_RIGHT_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eudo-available in X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54307-E04C-472E-B06B-7A8E638F2D8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ights –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release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ase all access rights to an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query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set of access rights to an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upgrade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grade current right to exclus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_downgrade_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grade current right to sha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implemented in XF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request_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 a specific access righ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061C0-778D-4768-9DC2-F876AD917BD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SM Examp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5176800"/>
            <a:ext cx="2597400" cy="50328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218000">
            <a:off x="1668240" y="3478320"/>
            <a:ext cx="5265720" cy="1681200"/>
          </a:xfrm>
          <a:prstGeom prst="leftRightArrow">
            <a:avLst>
              <a:gd name="adj1" fmla="val 50000"/>
              <a:gd name="adj2" fmla="val 62352"/>
            </a:avLst>
          </a:prstGeom>
          <a:solidFill>
            <a:srgbClr val="c0b9d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63480" y="2435400"/>
            <a:ext cx="839880" cy="1841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3581280" y="3317760"/>
            <a:ext cx="762120" cy="18147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8600" y="1219320"/>
            <a:ext cx="2816640" cy="11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63636"/>
                </a:solidFill>
                <a:latin typeface="Arial"/>
              </a:rPr>
              <a:t>Primary Storage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Online high-performance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e.g. 2 to 10 hours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current project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4832280"/>
            <a:ext cx="1954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De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e.g. &gt; 30 day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91120" y="5181480"/>
            <a:ext cx="17524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De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e.g. &gt; 12 month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4351320"/>
            <a:ext cx="2363760" cy="50328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1632960" y="2805120"/>
            <a:ext cx="2361960" cy="50328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48040" y="3021120"/>
            <a:ext cx="1179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Pro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on demand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03720" y="3546360"/>
            <a:ext cx="1179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363636"/>
                </a:solidFill>
                <a:latin typeface="Arial"/>
              </a:rPr>
              <a:t>Promote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600" spc="-1" strike="noStrike">
                <a:solidFill>
                  <a:srgbClr val="363636"/>
                </a:solidFill>
                <a:latin typeface="Arial"/>
              </a:rPr>
              <a:t>on demand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84920" y="1371600"/>
            <a:ext cx="2457000" cy="14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63636"/>
                </a:solidFill>
                <a:latin typeface="Arial"/>
              </a:rPr>
              <a:t>Nearline Disk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High Capacity, Low cost, 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Lower performance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e.g. 6 to 20 hours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this years project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00200" y="2895480"/>
            <a:ext cx="1993680" cy="11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363636"/>
                </a:solidFill>
                <a:latin typeface="Arial"/>
              </a:rPr>
              <a:t>Tape Library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Archive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e.g. hundreds to</a:t>
            </a:r>
            <a:br>
              <a:rPr sz="1600"/>
            </a:b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thousands of hours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 rot="5400000">
            <a:off x="7515000" y="4641840"/>
            <a:ext cx="881280" cy="519120"/>
          </a:xfrm>
          <a:custGeom>
            <a:avLst/>
            <a:gdLst/>
            <a:ahLst/>
            <a:rect l="l" t="t" r="r" b="b"/>
            <a:pathLst>
              <a:path w="1637" h="360">
                <a:moveTo>
                  <a:pt x="0" y="0"/>
                </a:moveTo>
                <a:cubicBezTo>
                  <a:pt x="0" y="20"/>
                  <a:pt x="0" y="39"/>
                  <a:pt x="0" y="59"/>
                </a:cubicBezTo>
                <a:lnTo>
                  <a:pt x="5" y="360"/>
                </a:lnTo>
                <a:lnTo>
                  <a:pt x="1637" y="360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934320" y="4003560"/>
            <a:ext cx="839520" cy="1814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38360" y="2971800"/>
            <a:ext cx="5295960" cy="990720"/>
          </a:xfrm>
          <a:custGeom>
            <a:avLst/>
            <a:gdLst/>
            <a:ahLst/>
            <a:rect l="l" t="t" r="r" b="b"/>
            <a:pathLst>
              <a:path w="3240" h="576">
                <a:moveTo>
                  <a:pt x="3240" y="576"/>
                </a:moveTo>
                <a:lnTo>
                  <a:pt x="1880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E5EBC-B4F3-4141-BE88-1F5E4DA096E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MAPI Mount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ptions must be used toge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nable the DMAPI event callou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dsm and dmi options are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tpt=mount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mountpoint specified here will be included in the DMAPI mount event, and should be the path of the actual mountpoint that is u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grep dmapi /etc/fs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dev/sdb1 /mnt/scratch1 xfs dmapi,mtpt=/mnt/scratch1,defaults 0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dev/sdb1 on /mnt/scratch1 type xfs (rw,dmapi,mtpt=/mnt/scratch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152B4-CF3F-4BC5-9DD7-696A5C729EF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hat if there is no DMAPI module?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mount -o logdev=/dev/sdb,dmapi,mtpt=/mnt/data /dev/sdd /mnt/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ount: wrong fs type, bad option, bad superblock on /dev/sd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issing codepage or other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 some cases useful info is found in syslog - 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mesg | tail  or 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dmesg | tail | grep 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: unknown mount option [dmapi]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heck that DMAPI is probed on boot and 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LES10 set DMAPI_PROBE to yes in /etc/sysconfig/sysc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Without rebooting XFS with load dmapi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# echo 1 &gt; /proc/sys/fs/xfs/probe_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# lsmod | grep 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mapi              22936 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mapi                  39728  1 xfs_dmapi,[permanen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                   479796  4 xfs_dmapi,xfs_quo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412B2-01DE-4A1A-8197-29E5CBE1EB9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Implement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DMAPI interfaces used by SGI’s HSM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ny of the bugs recently fixed in DMAPI did not impact SGI’s H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me DMAPI interfaces are not implemented by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intaining 2.4/2.6 compatible code makes it difficult to 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lan is to remove 2.4 support from this code b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MAPI requires two kernel changes that are not in ma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prot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pen_exe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6230A-89C9-4095-A1F6-8E38C6189F4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Librari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 rpm -qpl dmapi-2.2.3-12.2.ia64.r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lib/libdm.so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lib/libdm.so.0.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CHANGES.g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COP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doc/packages/dmapi/READ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28F89-EDFF-41AC-AAC2-1FFE9EF1058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Development Packag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gt; rpm -qpl dmapi-devel-2.2.3-12.2.ia64.r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lib/libdm.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include/xfs/dmapi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lib/libdm.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lib/libdm.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lib/libdm.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share/man/man3/dmapi.3.g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4692F-F790-44AE-9BFE-516A27BB875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Kernel Modu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gt; rpm -qpl kernel-default-2.6.16.21-0.8.ia64.rpm | grep 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dmapi/dmapi.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ilesystem independent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xfs/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lib/modules/2.6.16.21-0.8-default/kernel/fs/xfs/dmapi/xfs_dmapi.k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dependent mo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C53C9-D824-4A42-8BAC-4BB1B663432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Triag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AF343-57A8-46FD-BDAF-43F2056CC3F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9BA9A-C6CB-4E02-9D99-DE5D0984623F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SM Economic Benefi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4200" y="5452920"/>
            <a:ext cx="5459400" cy="366840"/>
          </a:xfrm>
          <a:prstGeom prst="rect">
            <a:avLst/>
          </a:prstGeom>
          <a:solidFill>
            <a:srgbClr val="363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9920" y="4790520"/>
            <a:ext cx="124776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Tape Library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30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53080" y="2369520"/>
            <a:ext cx="137952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High-Perf.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2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7966080" y="3421080"/>
            <a:ext cx="444600" cy="1057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927840" y="3487680"/>
            <a:ext cx="103824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Low Cost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6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0200" y="3852720"/>
            <a:ext cx="612288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System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c/MB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/o DMF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	</a:t>
            </a: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ith DMF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High-Perf. Disk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4c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900K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8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Low Cost Disk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0.8c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  -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5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Tape Library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0.37c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  -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110K</a:t>
            </a:r>
            <a:br>
              <a:rPr sz="1800"/>
            </a:b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DMF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    -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$11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otal Investment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$900K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$350K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84640"/>
            <a:ext cx="464184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Example Environment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2TB data less than 30 days ol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6TB data between 30 days and one year ol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3636"/>
                </a:solidFill>
                <a:latin typeface="Arial Narrow"/>
              </a:rPr>
              <a:t>30TB data over one year ol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70400" y="2369520"/>
            <a:ext cx="1379520" cy="4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High-Perf. Disk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3636"/>
                </a:solidFill>
                <a:latin typeface="Arial Narrow"/>
              </a:rPr>
              <a:t>30TB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56200" y="1464120"/>
            <a:ext cx="17510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ithout HSM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3800" y="1464120"/>
            <a:ext cx="1524240" cy="3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63636"/>
                </a:solidFill>
                <a:uFillTx/>
                <a:latin typeface="Arial Narrow"/>
              </a:rPr>
              <a:t>With HSM</a:t>
            </a:r>
            <a:endParaRPr b="0" lang="en-US" sz="22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676840" y="1914480"/>
            <a:ext cx="554040" cy="12002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904160" y="1936800"/>
            <a:ext cx="554040" cy="1200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8001000" y="4664160"/>
            <a:ext cx="452520" cy="97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9B653-790F-4BFD-9A2E-F67637E1D8A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hat do HSMs need?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notified of accesses/changes to a file's meta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able to accept or reject such accesses and cha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ave user processes block until the change has been appro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able to access a file without knowing a path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notified of changes to a file's metada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able to read and change the contents of a file without bloc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ave HSM-specific information persistently with a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can all files in a filesystem quick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be notified when filesystems become fu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30C19-186D-4620-9F69-4FF7D397D68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Standard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 Versions 2.1 and 2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/Open Data Storage Management API (XDSM) - 2/9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 rigorous standar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70 function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~40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 ev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 available free in HTML format from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opengroup.org/pubs/catalog/c429.ht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 Miroshnichenko’s paper from AUUG 1996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csu.edu.au/special/auugwww96/proceedings/alex/alex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5F96C-A247-40E2-9411-0F288E3239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and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file access without pathn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imilar to NFS file hand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andle is an opaque persistent identifier which is unique per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uld not change for the life of the obj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s are represented as variable length byte 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id* and size_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istence of a valid handle does not guarantee existence of the object referenced by 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nly way to guarantee the existence of the object referred to by a handle is to either obtain a right or hold on the ob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handle typ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bal handle - (used only in mount request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system handle - (fsid has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handle - (fsid hash/fid_t structur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FDF22-F7C2-406C-9B8A-4502EA68C1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Handles - DMAPI Fun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ath_to_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file handle from pathna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fd_to_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file handle from file descrip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path_to_fs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filesystem handle from file descrip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to_fshand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 the filesystem handle from a file hand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c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le handle comparis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is_val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if a handle is vali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h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h contents of a hand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storage allocated to a hand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_handle_to_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a pathname from two hand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2D9D4-029F-49BC-99C1-E78330D8663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MAPI Events and Toke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s are messages from the kernel to a DMAPI appl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notification of accesses/changes to a file or file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synchronous event is generated, the user process is suspended in the kernel until a DMAPI application issues an explicit response to the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oken is a reference to the kernel state associated with a synchronous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 events are for notification purpose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 indicate a completion (or failure) of certain oper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o not block user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ntain handles, directory name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5 - DMAP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71EDC-C5CD-47D6-A60D-AAB2272BDBE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6:58Z</dcterms:modified>
  <cp:revision>335</cp:revision>
  <dc:subject/>
  <dc:title>Possible CXFS Administration and Monitoring Interfaces</dc:title>
</cp:coreProperties>
</file>