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84EE3-1A03-4BCD-9DEC-AE9D94A3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E70DA-EF9C-492A-9ECE-C1E0E76F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07A5A-375F-4C76-95A7-E5468CF34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039EE-57F0-4EB6-B8B6-E83605BB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BC48-8E80-4CFF-B756-6124B2C1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7A53D-0577-4ED8-9ADD-DC2A33B9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2F35D-294E-4B9A-8E42-A1B085C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81FF-054A-464D-9429-FB07FF7A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E5AF5-F487-4F87-836A-ED132EFD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16595-2B3D-4CC4-AE59-79B83B18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6A18D-5FE5-4847-A962-881405EB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5C444-D0F7-4A77-863D-102B0F0C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0B86288B-8D90-4ED5-90F6-577C4174D84D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9 - Inter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fs_fill_su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cate a bhv_vfs struc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fs_alloc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initial behaviour module chain, for all bhv_module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insert_all_vfs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se mount options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parsear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end of this we have the final behaviour chain – e.g. if quota is not in use, its removed itself from the cha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bhv_remove_vfsop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mount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hv_vfs_mou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base XFS behaviour, we read the primary superblock, setup per-fs structures, does log recovery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quota behaviour, we do the quotacheck and dquot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AC474-C3E9-4ACE-AF36-00DBBE80F3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-Tre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1440" y="1476360"/>
            <a:ext cx="9146880" cy="390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7CF81-1197-4B4F-B79F-557EBC54BA0E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 and Directory Oper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2C6B-C7EF-4BF8-83F7-9C96EA8A8C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name Loo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424E-8F31-49A0-A1C3-EFD732C90E5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reating a new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0A77-3591-4AD4-A395-79C49B0D675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ng a new in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AC6E-5068-4413-A528-F3533D6752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dding name to directo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FE47C-735D-4E3F-B3B4-04D1FCE1CDF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Changing file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45E0-F5C6-43FD-A50F-69CC0730C7E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riting to a new file / Appending to an existing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06B1E-5617-4F7C-AB10-AF7B5B34BD4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ing from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5954-3234-4846-95CE-A7FAB94E751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Archite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Incorporate Nathan’s stuff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71BF-F027-41C5-9523-3C1B4E1FC05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eek and write to create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8E00-0497-41EB-A2B7-F394E77B62F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d and write to a ho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430B8-E143-4126-A059-45619E8330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uncate a fi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F75E-A092-4FE2-A6C0-F633D4E76A7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pace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i / xfs_bmap_alloc  (the root of all evil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MAP interf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extent map for rea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actual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t unwritten extents to written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pace allo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+Trees (“dat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b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space bitmaps (“realtim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map_rtall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stripe unit/width size/align, di_ext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41C70-B23F-4705-B3CF-24DB6D4209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mory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been a source of problems on the Linux XFS port, it is much improved now, howe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 was very good at ensuring memory allocations succeeded, XFS written on IRIX... you do the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rocess flag added into Linux XFS zone (slab) allocation routines that make the allocator aware of memory allocations from within a transa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9D431-D7A2-4960-89E2-175670BCF0F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Buffer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buf.c and xfs_buf.h implements the XFS metadata buffer cache o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pag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 “pinn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ral “private” buffer poi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ing, iodone semaphore for I/O wai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lbacks for: iodone, relse, pre-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-core log buffers also implemented via xfs_buf_t and this causes some oddities in there – sub-buffer-sized I/Os, non-page-cache buff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address_space from b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84D6-D7CB-4555-83C2-27E2215D205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etadata I/O Comple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logd/N (per-CPU daem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ads that handle I/O completion work for iclog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log_state_do_callbacks – runs multiple completions, depends on what was logged inside this iclog buff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also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_buf_do_callbacks – typically, removing from AIL and freeing up buffer_item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datad/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cover later, in the I/O path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e sort of idea th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82ED7-CE4E-4A5B-AEEB-A1BF1924C1B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ayed write buff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buf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rnel thread, one per filesystem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lk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buftarg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“buffer target”) hash table finding delayed write buff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s timestamped when queu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tweak the age at which unpinned and dirty metadata buffers will be considered for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age_buffer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unable daemon wakeup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proc/sys/fs/xfs/xfsbufd_centise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B3A4-480F-4740-8E8B-1EA7AF2AA73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/O Path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and write family of sys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th buffered and direct I/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lrw.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locking (i_mutex/iolock/i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MAPI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write reserves space only, allocation at writeout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_block_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ode, iblock, buffer_head, “create” fla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 buffer_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_state, b_blocknr, b_size, 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CEB1-476C-4C99-B0DC-1C25896E508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sync(2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implements an optimisation to sync(2) of meta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will only force the log out, such that any dirty metadata that is incore is written to the log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nl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 metadata itself i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cessarily writ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safe, since all change is on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data is guaranteed too (even barrier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ze/thaw, remount,ro and unmount do guarantee both log and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been bitten in the past, but fixed nowa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1245A-A2EF-40FA-8EBC-3722C605A9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vnodeo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FS system call interfaces are mapped to xfs functions in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vnode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vnodeops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_vnodeop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open, close, fid, read, write, sendfile, splice, fsyn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getattr, setat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attributes -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ttr_get, attr_set, attr_list, attr_rem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ccess, look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permissions/exist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, remove, symlink, read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gular files, specia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ddir, mkdir, rmdir, rmdir, link, re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claim, release, inactive, iflush, bmap, flush_pages, flush_inval_pages, toss_p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node / page cache state and/o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6B81-9445-4D32-BF5F-A68C64C31C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ata writeou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ed by the VM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vm_writepage(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aops.c::xfs_page_state_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cache pages attached to inodes via a radix-tree (2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ode-&gt;i_mapping and page-&gt;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 does its own writeout, sort of (due to delayed allocation and unwritten ext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k through 2.6 writepag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use buffer_heads for per-fsbno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ioend_t - goes direct-to-bio for actual write, with &gt;1 page at a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ADC2-EB31-416C-ADCE-251CE75119A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nsac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p = xfs_trans_alloc(typ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reserve(tp, data, log, rt, ..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make changes, allocate space, free spa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superblock/inode(s)/buffers/... to transaction, logging ranges within these objects, typically, e.g.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trans_log_inode(tp, ip, XFS_ILOG_COR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= xfs_trans_commit(t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39C10-1BD0-40F5-97B0-1254DF4D58F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7135920" cy="531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D4F5E-E7AA-4C7B-A16E-939D50343CD7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0462B-2867-4011-9CDA-6A223A74B77B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vnode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D9B7B-6B4F-40B0-8562-EBDBA96162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specific system calls (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ctl()</a:t>
            </a: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) are dispatched by </a:t>
            </a: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_ioctl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xfs_fs.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s/xfs/linux-2.6/xfs_ioctl.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metry, fscounts, [get|set]resblks, shutdown, freeze/th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level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[fs|fslog|fsr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system size (and maximum inode count) expa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get|set]xflags, fs[get|set]xattr, fs[get|set]xattra, dio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attribu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I/O parameters (min/max/al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csp, freesp, resvsp, unresv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llocation and/or pre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lkst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(sequential) inode's attributes – stat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sdump, quotacheck, dm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-handle (open, fd-to-, path-to-, readlink, attrlist, attrmulti, ..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ulating inodes by “handles” (inum/igen/f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bmap, getbmapa, swap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de data/attr fork extent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CA5B6-E440-4145-AA97-9F2ED36205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: explain important xfsct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11F6-C468-41C2-B384-4691791C6D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sysctl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usr/src/linux/Documentation/fs/xfs.t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ymlink_mo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links get mode 0777 by defau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ix_sgid_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gid bit always inherited regardless of process g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mlin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t inherit symbol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rict_chow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wn restricted to 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torste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files in AG before rotating to next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quo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ioop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le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e_dm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kernel moduel on mou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_buffer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 of buffered data before flus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sync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sync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bufd_centisec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xfsbufd r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ati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 accesstime trackin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dum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dump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erit_nosyn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 nosync flag into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_lev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error handling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nic_m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XFS panic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A79C9-0069-4BDE-84BF-2563470EE4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entry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directory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unused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claim &gt;secs when short o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Calling shrink_dcache_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max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imum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# files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iles in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x number of files system w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state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active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umber of free inod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 # &gt; inode-max so prune inod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-nr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ame as inode-state first two v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4423C-7614-4476-9D2A-6CBDA624B7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ehaviou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27080" y="1905120"/>
            <a:ext cx="7096320" cy="345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9 - Internal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999F2-1DAC-4F4D-99E5-2EF0FC71EE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21:52:32Z</dcterms:modified>
  <cp:revision>338</cp:revision>
  <dc:subject/>
  <dc:title>Possible CXFS Administration and Monitoring Interfaces</dc:title>
</cp:coreProperties>
</file>