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F5ECC-CC30-4ED9-BE4F-EF64F5B2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9C277-BEF9-49F8-8E91-7B908552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4BDDA-C10F-4AB9-99FF-204917F8D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DA20B-A943-4171-AFE1-A4289206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25F30-6637-4B09-8923-F28D53CA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FB9E4-69FE-4F52-A4A6-977D9CCD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739CA-4EED-4FD3-A2F9-B8E651D5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673D7-C889-43CF-AE70-74500B5D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69D07-53AC-4E80-95AC-0D2F4701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C85A3-99D5-490D-9365-62256652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C175A-BCCE-4C3F-83B8-5BD3D95A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56153-1237-41D5-961B-C739BAD5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8C2B777D-4562-4DD1-BC32-2B2462A21224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1 - Dump and Resto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Resuming Dum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DCF39-45C7-4540-B92E-A44A226E5F8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Querying Dum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AF132-2D7B-45E2-A737-AEC3864C048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– Local Tap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BB7E4-2CF9-4622-94C8-0F568C1E20C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– Remote Tap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5E499-7ED4-4463-BFC6-12864E1C731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– Restore from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37592-A532-47DB-929C-F65A1E1D19A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- Interactiv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F2914-3B55-471C-8EB1-B888CD6178D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restore – Cumulativ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99219-A7A9-45DF-97FB-E2F014227D8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o these still app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xfsdump/xfsrestore does not sup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ape devices using multiple -f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IXdumpoption-z (prune large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PIrelatedoptionsof-a and -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xfsdump/xfsrestore does, however, have the added capabilities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restricted use of the -b option for blocksize specification and 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mping/restoring between Linux and IRIX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5A3C9-C12C-4DC2-B484-4FE7100AB77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cop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A15CD-7AC3-437A-A656-3BFFFCF7DB9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249EF-1728-46CE-A238-AEA3073428A9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Dump and Restor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section descri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differences between xfsdump, xfs_copy and other backup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to use xfsdump and xfsrestore to backup and restore an XFS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to use xfs_copy to copy an XFS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AFD80-8EDD-4061-B75B-671EB588C4B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ump vs Copy vs Backup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dump understands all the extensions in an XFS filesystem, so all attributes will be backed up and rest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_copy 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raditional backup applications may not backup all attributes, but they provide other management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ome are still limited to 32bit 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ome are BAPI aware which means they work with DMAPI and will not back up files that are already achieved by a HSM. Otherwise they would pull files off tape to backup onto other ta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1C563-3CD7-4414-8961-1CC95EA499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- Featur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dump and xfsrestore support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features including 64-bit inode numbers, file lengths, and h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ular, directory, symbolic link, block and character special, FIFO, and socket file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ain hard lin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media types (tape, fi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not affect the state of the filesystem being dumped (for example, access times are retained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restore detects and bypasses media errors and recovers rapidly after encountering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dump does not crossmount points, local or rem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port for automated and incremental back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A2EEC-09F6-4F25-A6CF-76D9F0AE20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Media Layou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1BE5C-8869-4F0D-A815-39252D0A5E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Local Tap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AADA5-6A59-4C54-97E0-A4204F7E4A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Remote Tap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B3C98-B8EB-448D-898A-884C80F68A9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Backup to a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CB531-24B4-4ADC-96D0-D41335B90C2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dump – Incremental Dum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4 - Dump &amp; Rest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53914-BE1B-4542-926F-E465C761F54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6:21Z</dcterms:modified>
  <cp:revision>340</cp:revision>
  <dc:subject/>
  <dc:title>Possible CXFS Administration and Monitoring Interfaces</dc:title>
</cp:coreProperties>
</file>