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52720" y="-3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8440" y="739800"/>
            <a:ext cx="49402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52720" y="9380160"/>
            <a:ext cx="29448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BD46-FCAF-496B-A122-E9ADB5C0B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Deeply hooked into XFS. Block level, not byte. 64bit nu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or each i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nforcement of quotas is optional. We can track usage to inform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don't have to enforce that (qnoenforce mount option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eneric commands do not scale to the size of xfs filesystem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t they do work with XF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ther filesystems use a file to record and track quotas,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embeds this information into internal data structures in XF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ked in the super block. So quota operations in XFS are journal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* Nathan has a patch for quotas for realtime. The dquot is ab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o differentiate and you could set different quotas for metada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and realtime dat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was commented out of IRIX for a while, whe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was done the project quota was used to impl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group quotas. Hitachi then asked for group quotas on IRIX, s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Nathan's project quotas to do group quotas was back ported to IRI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XFS architecture team decided to use project quotas to do directo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evel quotas, which is an inode flag that is inheritable. No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of the user tools on linux understand projects, so we have xfs_quo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that understands user, group and project quotas, even on realtim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project quotas are specific to xfs. every xfs inode has a proj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d. inodes inherit project id. does not allow links between ino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with different project ids. could be used as a cheat to grow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hrink a filesystem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flags field in sb holds 3 bits for each type (user, group, projec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ndicating if we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allocating (tracking)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enforcing quot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- checked (on mount if this is not set but mount with quotas, go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bulk stat and rebuild quotas then set this bit. bit is unset w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filesystem is not mounted with quota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sb also holds two special inode numbers for the dquot fi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linux quotas in the vfs maintained by Jan Kara at Su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quota file is large and gets fragemented since it needs to deal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huge range of ids support by linux. it could preallocat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" spc="-1" strike="noStrike">
                <a:solidFill>
                  <a:srgbClr val="000000"/>
                </a:solidFill>
                <a:latin typeface="Times New Roman"/>
              </a:rPr>
              <a:t>it could be a btre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AF051-D16A-4D44-9960-59C9C2D4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C400-EB8F-4AFE-8163-A34806F2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2420D-D317-4A11-B671-A6AF158FB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3B7BB-4B50-4936-A80E-153004A2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2D9C-7C14-4D2D-AD06-7B30AFBA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ADDC-C9BD-4E52-B923-A2458E96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36F01-892E-4A59-9EB2-129C81EB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D5769-D688-4C40-BD33-982A894D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6E29-108B-47BA-994C-5CA37576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ACD9-8A25-4968-B773-22F211BD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23070-83E3-4EB4-AD37-C81B1178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11CF5-1285-458C-A1D3-4E34F161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EF4E69EE-3407-431C-BB4E-7990A4A0C758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cvs@oss.sgi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3 - Buil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tutorial describes how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tain the latest XFS source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ow to build and install the commands and kernel compon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following prerequisite RPMs should be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mapi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se headers and installed can be built from source, but these RPMs will normally su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B6146-9D8D-4505-A093-7A19FDD3B2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40099"/>
                </a:solidFill>
                <a:latin typeface="Arial"/>
              </a:rPr>
              <a:t>XFS Source Cod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test XFS is available via CVS from oss.sgi.c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export CVSROOT=':pserver:</a:t>
            </a:r>
            <a:r>
              <a:rPr b="0" lang="en-GB" sz="1600" spc="-1" strike="noStrike" u="sng">
                <a:solidFill>
                  <a:srgbClr val="0000ff"/>
                </a:solidFill>
                <a:uFillTx/>
                <a:latin typeface="Courier New"/>
                <a:hlinkClick r:id="rId1"/>
              </a:rPr>
              <a:t>cvs@oss.sgi.com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:/cvs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lo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ogging in to :pserver:cvs@oss.sgi.com:2401/c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password: &lt;password is “cvs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vs checkout: Updating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.gitign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OPY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 linux-2.6-xfs/CRED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vs checkout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A56BC-E3E4-4F04-81F3-81590DC9DB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ing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ilding the XFS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xfs-cm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PM packages will be placed in RPMS/&lt;arc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RPMS/x86_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progs-2.8.15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rpm -i xfsdump-2.2.43-1.x86_64.r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 RPM packages will be placed in SRPM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48300-A76A-4F57-96F7-3FD073B9EA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Kernel Configuration Option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052640"/>
            <a:ext cx="84740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FS can be built as a module or statically linked into the ker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quota disk limi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data management API (requires generic kernel DMAPI suppo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CONFIG_XFS_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lternate access control models (ie SELinux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POSIX_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Access Control Lis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REAL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for the realtime allocator that provides deterministic data r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DEB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debugging features in the build (ie ASSERTs, sanity checking code, etc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ONFIG_XFS_TRA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clude support for activity tracing of inodes, buffers, locks, the log, I/O path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3FB1B-04FA-4CB8-93EA-B889B10FC1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Build Kernel Compon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gure and build kernel and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cd linux-2.6-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xconf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bzIm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make mod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&gt; sudo make modules_inst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XFS wasn't built as a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arch/&lt;arch&gt;/boot/bzImage /boot/vmlinu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p System.map /boot/System.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i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reb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B48D-3D8D-4505-A5E5-2BEAA9D1B3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Load XFS Modul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ad the XFS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modprobe xfs_qu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lsm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dule                  Size  Us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dmapi              32852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_quota              85120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xfs                   848864  2 xfs_dmapi,xfs_qu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now mount XFS filesystem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730EE-436D-4607-B103-853F385046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3 - Buil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8D44A-89A8-4608-A373-9BFCF603C38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5:27Z</dcterms:modified>
  <cp:revision>334</cp:revision>
  <dc:subject/>
  <dc:title>Possible CXFS Administration and Monitoring Interfaces</dc:title>
</cp:coreProperties>
</file>