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00C32-58A9-4672-98F7-5E6DCCDA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798C-CE7C-4220-A856-F553F68A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0EC8A-6710-4AB3-A960-4AC4CBCF2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CD8A1-72A6-4065-9DDE-3B63AF9E8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1008E-8D99-4303-99AD-C1EB7736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652B-1716-4614-9C21-FDDA8BC5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0B3A-7500-47C9-AC26-F1227EB3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2A74-4BAB-4EC9-9C76-2E3C52D1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993FC-3BA7-4302-99E0-4CA2FD55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3B147-F4F9-459F-9D98-84FD3856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959F-478D-4F0E-9498-055D2CE2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5A17-AD9E-4B05-AED0-1E87F670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2E3A755F-239E-4D3B-B9C0-20040E3948AE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ss.sgi.com/bugzilla/show_bug.cgi?id=723" TargetMode="External"/><Relationship Id="rId2" Type="http://schemas.openxmlformats.org/officeDocument/2006/relationships/hyperlink" Target="http://oss.sgi.com/bugzilla/show_bug.cgi?id=723" TargetMode="External"/><Relationship Id="rId3" Type="http://schemas.openxmlformats.org/officeDocument/2006/relationships/hyperlink" Target="http://oss.sgi.com/bugzilla/show_bug.cgi?id=723" TargetMode="External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Repai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6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stage, the filesytem is in a mountable st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the directories analysing all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directories with any corruption are rebuilt with whatever entries can be recover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missing root directory is recre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inodes that are in a directory are marked reach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, any unreached inodes are put into lost+f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45845-4876-48D0-8F08-4F08DC5BF78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7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links for inodes are corrected based on the data collected in phase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5F27-642A-4610-B1EA-EBBA080438F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iaging xfs_check and xfs_repair probl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of the time, inode information is requir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inode &lt;inode numb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root inode number can be derived from the superblock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sb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 roo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For directories, we can also dump the contents from the extent list shown in the ino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dblock &lt;file offset in block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&gt; 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irectories have file offsets typically starting at 0, 8388608 and 16777216. Each of these offsets stores different information for a directo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69560" indent="-169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he filename and inode numbers at 0, hash values at 8388608 and free space information at 167772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87EC-C2BB-4BBB-A3C3-F4795852CA9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and xfs_check should ag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804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f one of the tools reports a problem when the other passed the filesystem, there is a problem with one of the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st likely xfs_re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bugzilla/show_bug.cgi?id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=7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check finds some errors on the filesys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387655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3313696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link count mismatch for inode 17197100 (name ?), nlink 0, counted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_repair reports no 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200" y="1052640"/>
            <a:ext cx="41608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1 - find and verify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2 - using internal 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zero lo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filesystem freespace and inode map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found root inode chu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3 - for each AG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can and clear agi unlinked lis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known inodes and perform inode discover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rocess newly discovered inod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4 - check for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setting up duplicate extent list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 lost+found (if it exists) 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learing existing "lost+found" i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arking entry "lost+found" to be dele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check for inodes claiming duplicate block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agno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Phase 5 - rebuild AG headers and tree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 superblock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6 - check inode connectivity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resetting contents of realtime bitmap and summary ino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ensuring existence of lost+found directo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filesystem starting at /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rebuilding directory inode 1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ing all unattached subtrees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traversals finishe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- moving disconnected inodes to lost+found ..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Phase 7 - verify and correct link counts..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Courier New"/>
              </a:rPr>
              <a:t>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69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BA866-2DB4-4EEC-915F-C5920325D606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ump the offending inodes…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xfs_db -c "inode 387655" -c "print" /dev/sda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agic = 0x494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mode = 040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version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format = 1 (loc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linkv1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size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block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extsize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re.nextents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_unlinked = 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i8count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.sfdir2.hdr.parent.i4 = 1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FE115-4009-4FAA-BC9A-1390B9AFDB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and Repair Fails – Corrupted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log is corrupted you will see an error like: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mount &lt;filesystem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unt: Unknown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dmesg | tail -20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“&lt;filesystem&gt;": xfs_inode_recover: Bad inode magic number . . 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ilesystem "dm-0": XFS internal error xlog_recover_do_inode_trans(1) at line 2352 of file fs/xfs/xfs_log_recover.c. Caller 0xffffffff88307729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/recovery failed: error 99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000000"/>
                </a:solidFill>
                <a:latin typeface="Courier New"/>
              </a:rPr>
              <a:t>XFS: log mount fail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 xfs_repair &lt;devic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1 - find and verify superblock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Phase 2 - using internal log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         - zero log..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ERROR: The filesystem has valuable metadata changes in a log which needs to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be replayed.  Mount the filesystem to replay the log, and unmount it befor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re-running xfs_repair.  If you are unable to mount the filesystem, then us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the -L option to destroy the log and attempt a repair.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Note that destroying the log may cause corruption -- please attempt a mount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  of the filesystem before doing thi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eful information can be collected for triag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–C &lt;filename&gt;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/usr/sbin/xfs_logprint -t &lt;device&gt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ut in this case, the only option may be to throw the log aw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ourier New"/>
              </a:rPr>
              <a:t># xfs_repair -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0838-B1E5-4403-A923-BD373BBE48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55B9-E24C-43D2-8555-F2051FA0B44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tro to checking and repairing filesystems, why do we need to do this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E8902-7C5F-4671-9F17-63EEE2A224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che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is a script that runs xfs_db to do a filesystem che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check" command in xfs_db scans all the metadata structures for in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check uses a different codebase to xfs_re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check and xfs_repair can be used to cross check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check vs xfs_repair -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2A71-26FE-450D-BFF5-BAAD33D00CF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scans the filesystem and corrects any problems encount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performs a scan and repair in seven ph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hase relies on the previous phase to fix a certain class of potential err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repair uses libxfs which is a partial port of the XFS kernel code to user-sp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26247-E099-4AF2-8A01-9DCF90F857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, verify and fix super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uperblock is not found, xfs_repair will sto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up a virtual mount structure for the common XFS code base (libxfs) to work fr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3184D-E40B-40C1-9211-08264424553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 the AG header structures (AGI, AGF and AGFL) and scans the AGF and AGI btre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28820-AE6B-4310-AD1B-5BB03F9CB9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AGI btree from phase2, scan the inode tree, processing the unlinked list for deleted inodes and finding possible missing inode clus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all the found inodes, recording used filesytem blocks (extent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directory inodes, scan the directory structure for more lost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d inodes are trashed including unrecoverable corrupted dire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3694C-B1DF-4BA5-B810-09137B14DE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 inode extents again. Any inode with an extent covering used data is trash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2E53A-0A0D-461D-B9D8-D403153FDD2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repair – Phase 5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uild AG headers and structures including the AGI btree, AGF btrees and AGFL regardless whether any errors have been found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 inodes are also reconstruc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1 - Repai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56AA6-8C7B-4CED-B914-113155D3A6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4:10Z</dcterms:modified>
  <cp:revision>335</cp:revision>
  <dc:subject/>
  <dc:title>Possible CXFS Administration and Monitoring Interfaces</dc:title>
</cp:coreProperties>
</file>