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811E9-57BA-4340-ACE1-416F829F4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A8B41-9C97-446D-A6A8-ABA28E13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20788-159A-44EF-BBF6-06038D2E1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44410-70BE-4A7D-A983-9905072A4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CA140-BE90-480B-BBEA-A4182FF6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F770E-CB4D-4266-AA1A-46260CCB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EB8E7-C6B0-40D3-B336-537E81BB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3CFE0-6F44-46C5-8584-D735E70A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69D1C-F787-4224-A667-B93D8699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41013-2DAA-4A39-9C15-FDD1C370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7E0BB-D4BD-410F-BAB5-29A9E807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2AB4F-4758-4925-A836-6950ADF6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4E9DA20D-BDFF-4063-956A-B0AF4988EAA0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91640" y="437832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63636"/>
                </a:solidFill>
                <a:latin typeface="Arial"/>
              </a:rPr>
              <a:t>Presented by:</a:t>
            </a:r>
            <a:endParaRPr b="0" lang="en-US" sz="16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oss.sgi.com/projects/xfs/faq.html#wcache" TargetMode="External"/><Relationship Id="rId2" Type="http://schemas.openxmlformats.org/officeDocument/2006/relationships/hyperlink" Target="http://oss.sgi.com/projects/xfs/faq.html#wcache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05 - Mou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 – User/Group Quota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03178-C969-4464-8EAA-6BAEB550B69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 – Project Quota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B7726-533E-49E8-8953-35E27BDD1CA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_info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C2E56-E854-43CC-9894-E69F669CE9C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4B3CB-D307-461A-8E86-1A9CEFA3C4FF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Mounting XFS Filesystem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is section describes some XFS-specific mount options and how they affect the behaviour of X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5B16B-2E15-4105-8FDB-D4DA4EC20A0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d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inux tre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cumentation/filesystems/xfs.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urier New"/>
              </a:rPr>
              <a:t>xfs/fs/xfs_vfsops.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mount(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options are specific to XF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common Linux mount options does XFS not suppor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5ED22-2DAE-4C1A-A04A-1121B9323C9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 – Log &amp; Realtime Devic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C7121-0175-4B19-8FF6-4686938DFF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 – 64bit Inod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y default XFS uses 32bit i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inode’s number roughly equates to its location on d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ombination of allocation group, cluster and b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ode on Linux is 32bit on 32bit mach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ay change in future kern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llocator will place 32bit inodes in the first teraby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Using a larger inode size means less inodes per cluster allowing 32bit inodes to be located beyond the first tera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ode ro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inode64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option on 64bit machines allows inodes to span the entire file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llocator will try to put file extents in same allocation group as i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t all backup tools support 64bit 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node number used to identify file between back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59193-9339-4098-8634-AF5B92BFE8C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 – Allocator Hint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C152C-5ABC-46CD-A70A-581B72AAFA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 - Strip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C2F77-8D15-43E3-8162-91CECADD6A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 - Recovery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4707D-E60A-40DD-846D-3CE39BC4698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ount Options - Barrier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rite cache on disk can result in filesystem corruption since XFS is told the log transaction has reached the disk when in fact it is still in the disk cach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 journal log assumes that the log transaction is updated on disk before the metadata is updated, but this may not be true with write ca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is able to issue write barriers if the device supports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nsures that the log entry is written before any other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rite barriers are enabled by default in SLES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ilesystem will attempt to determine is barriers are supported and will issue a warning if they are n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nobarrier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option disables write b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oss.sgi.com/projects/xfs/faq.html#w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5 - Moun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F315C-046E-4B68-945D-D668B9E8EC0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19:37:00Z</dcterms:modified>
  <cp:revision>333</cp:revision>
  <dc:subject/>
  <dc:title>Possible CXFS Administration and Monitoring Interfaces</dc:title>
</cp:coreProperties>
</file>