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CECE-B91A-40DD-B81C-B4F96468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FBBDA-8918-4418-B622-57C4B76D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208E6-3D5A-4805-9CD0-809000AD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32102-F1A6-4D3B-A3D8-99FD5BCC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4D30A-4BD3-48C8-977D-8BDBE197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45F6-BACE-46FC-8B0B-F97334E2B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3E197-13DE-48CF-B7A4-42A9CE05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D8392-3ACE-47E9-A6EA-A9BA1F73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60894-CA55-4485-9930-D4EF5560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92C01-555E-4F66-8AB5-6A8EBC62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953F-3311-4704-9C43-8BCF62CE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1BDB8-C282-48C6-83B2-DBC7DD0E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50E2527D-55AB-4141-87B4-24556C55624D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2 - Tri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131E4-574B-44F4-BBBD-F73CCBD200C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12BC4-7FF9-45D2-ADA8-10732F4DE3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E72BB-2A44-4826-B6B3-DD9B9FF24E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2 - Triag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2530-A283-411E-B10F-CCF89943683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57Z</dcterms:modified>
  <cp:revision>338</cp:revision>
  <dc:subject/>
  <dc:title>Possible CXFS Administration and Monitoring Interfaces</dc:title>
</cp:coreProperties>
</file>