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F069-4934-4281-AAE4-02AE4BB4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2524C-13C9-4033-BA34-699E9B0D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E554-8E7A-4F53-8971-4EA83D062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179F-5AAA-418A-9C97-3771622D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1A85-A4C5-40FB-B303-5BE6E06F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0292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68160" y="146160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3768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0292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68160" y="3729960"/>
            <a:ext cx="27284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279E2-DEEC-4CE2-A1C7-4C300C09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F36F-4A7E-4904-B809-45309BAF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F40F-F5E7-4B22-812D-7A599BA2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55680" y="263520"/>
            <a:ext cx="844704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7FD1-5035-4369-A03B-2BFA3B86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2486-4833-470A-8F40-5BE5BB56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0000" y="372996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2B405-A689-4E5A-8DA3-84763BEF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0000" y="1461600"/>
            <a:ext cx="413532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37680" y="3729960"/>
            <a:ext cx="8474040" cy="207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C540-4FE9-4FDD-949B-7035049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12000"/>
            <a:ext cx="9144000" cy="0"/>
          </a:xfrm>
          <a:prstGeom prst="line">
            <a:avLst/>
          </a:prstGeom>
          <a:ln w="57240">
            <a:solidFill>
              <a:srgbClr val="44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13760" y="6264360"/>
            <a:ext cx="539640" cy="44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400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390400" y="6237360"/>
            <a:ext cx="11905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27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673440" y="6237360"/>
            <a:ext cx="1905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Page </a:t>
            </a:r>
            <a:fld id="{DA07F704-47BB-4E69-B3D6-C33F5D60F754}" type="slidenum">
              <a:rPr b="0" lang="en-US" sz="1000" spc="-1" strike="noStrike">
                <a:solidFill>
                  <a:srgbClr val="36363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25520" y="6199200"/>
            <a:ext cx="2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537000" y="6199200"/>
            <a:ext cx="19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|</a:t>
            </a:r>
            <a:endParaRPr b="0" lang="en-US" sz="1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323640" y="6237360"/>
            <a:ext cx="19270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13223" t="9376" r="18457" b="9336"/>
          <a:stretch/>
        </p:blipFill>
        <p:spPr>
          <a:xfrm>
            <a:off x="812880" y="1346040"/>
            <a:ext cx="3819600" cy="3872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991200" y="0"/>
            <a:ext cx="2148120" cy="6858000"/>
          </a:xfrm>
          <a:prstGeom prst="rect">
            <a:avLst/>
          </a:prstGeom>
          <a:solidFill>
            <a:srgbClr val="44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86560" y="5400720"/>
            <a:ext cx="1214640" cy="984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34800" y="423720"/>
            <a:ext cx="3962520" cy="220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47800" y="2066760"/>
            <a:ext cx="40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3636"/>
                </a:solidFill>
                <a:latin typeface="Arial"/>
              </a:rPr>
              <a:t>Silicon Graphics, Inc.</a:t>
            </a:r>
            <a:endParaRPr b="0" lang="en-US" sz="2400" spc="-1" strike="noStrike">
              <a:solidFill>
                <a:srgbClr val="36363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97000" y="2695320"/>
            <a:ext cx="5511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825800" y="569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6363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39480" y="6092640"/>
            <a:ext cx="192708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6363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484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6363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363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  <a:p>
            <a:pPr lvl="1" marL="40176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Helvetic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249"/>
              </a:spcBef>
              <a:buClr>
                <a:srgbClr val="363636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oss.sgi.com/projects/xfs/users.html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linux-2.6-xfs/" TargetMode="External"/><Relationship Id="rId2" Type="http://schemas.openxmlformats.org/officeDocument/2006/relationships/hyperlink" Target="http://oss.sgi.com/cgi-bin/cvsweb.cgi/linux-2.4-xfs/" TargetMode="External"/><Relationship Id="rId3" Type="http://schemas.openxmlformats.org/officeDocument/2006/relationships/hyperlink" Target="ftp://oss.sgi.com/projects/xfs/download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ss.sgi.com/cgi-bin/cvsweb.cgi/xfs-cmds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695320"/>
            <a:ext cx="602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XFS Overview &amp; Internals</a:t>
            </a:r>
            <a:br>
              <a:rPr sz="3200"/>
            </a:br>
            <a:r>
              <a:rPr b="1" lang="en-AU" sz="3200" spc="-1" strike="noStrike">
                <a:solidFill>
                  <a:srgbClr val="000000"/>
                </a:solidFill>
                <a:latin typeface="Arial"/>
              </a:rPr>
              <a:t>01 - Backgrou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50560" y="4743000"/>
            <a:ext cx="55753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6363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Who is using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projects/xfs/user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 is out of date but it gives an indication of the spread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is included in a number of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pport agreement with Novell for SLES dis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EF63D-BD1E-40F0-87E5-2E3930C9A4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linux/fs/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p of tree (tot) XFS on oss.sg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appear here shortly after they are checked in inter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VS tree on oss.sgi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linux-2.6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oss.sgi.com/cgi-bin/cvsweb.cgi/linux-2.4-xfs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ftp://oss.sgi.com/projects/xfs/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anges routinely pushed to 2.6 mainline kernel up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t://oss.sgi.com:8090/xfs/xfs-2.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intenance only for 2.4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SE major releases and service p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 close to top of tree as possible at the time of the code 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ifferences between tot, SuSE and mainline kernels highlighted in course n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8889-B7E7-461D-A15D-7FC003201B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– xfs-cmd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large amount of common code between kernel and user-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s how xfs_repair understands the on-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er-space commands in a different cod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oss.sgi.com/cgi-bin/cvsweb.cgi/xfs-cmd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is includes test framework under xfs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ckag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progs-d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d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CD3F8-3155-4CE4-98A2-6C6FB460F7B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Distributions - dmapi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MAPI has not been 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likely to be accepted without a complete re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ot distribution on oss.sgi.com includes DMA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hanges we make to DMAPI will immediately appear in the CVS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18997-721D-4CC3-A257-226BB1E64CA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IRIX vs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V1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system block size &lt;= PAGE_SIZE on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case insensitive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64 bit inode numbers on 32 bit platf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need XFS changes once generic changes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es not support filestreams allo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Development in progress (Oct 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&gt;512 byte sector s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 RAI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write barri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es not support “noikeep”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315C-7E7A-42B6-87DE-479FF53EA9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Ongoing Development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mits and reviews designs for adding new features, or enhancing existing features, targeting one or more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Triage Ro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30456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gineer rostered for one week to triage incoming bug reports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Nov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6676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maining time devoted to developing features and fixing b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B909-A530-4728-8AAE-D42BD0205C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481320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36EA1-384F-4B0B-B68B-371F39645F7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Topic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urse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Brief History of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Us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unt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XFS Architecture &amp;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le and Directory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n-disk Form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pporting X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lated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8DBAA-D4A8-4DE7-80DB-3C9F0381F10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Course Objective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y the end of this course you will be able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reate and mount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nderstand how X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es and manages meta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es extents to files and manages fre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rovides 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Tracks filesystem 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ackup and restore an XFS file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over and repair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terpret on-disk and in-core XFS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AA9BF-312C-4116-9A8B-5AA6584075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1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804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Background and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Mounting File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200" y="1461600"/>
            <a:ext cx="416088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XFS Bu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reating and Mounting X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Quo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Extended Attrib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Allo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7DA30-9ADC-4119-BF83-5BBD7C569EFF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2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rchitecture and Inter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On Disk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63BA-6ADB-4688-858F-719BC771C6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3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 &amp; 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pairing XFS File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Tri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B02B5-F3C4-455A-97BE-9DE0F8CBA6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Day 4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XFS and Volume Manag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act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ump and Re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M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9C12E-5588-463D-BB97-151A8FD8D2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440099"/>
                </a:solidFill>
                <a:uFillTx/>
                <a:latin typeface="Arial"/>
              </a:rPr>
              <a:t>A Brief History of XFS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iginal design was circulated within SGI in October 199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FS: the extension of E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x" for to-be-determined (but the name stuc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ystems: one terabyte, 2^^40, on 32 bit systems; unlimited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files: one terabyte, 2^^40, on 32 bit systems; 2^^63 on 64 bit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number of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directori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 I/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 access to ino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lanced tree (btree) algorithms for searching large lis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ynchronous metadata transaction logging for quick recov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ayed allocation to improve data contigu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L's --Access Control Lists (see chacl(1), acl(4), acl_get_file(3c), acl_set_file(3c)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First released in IRIX 5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8FCE2-E320-4F27-8F3E-710BAA797E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5680" y="263520"/>
            <a:ext cx="84470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440099"/>
                </a:solidFill>
                <a:latin typeface="Arial"/>
              </a:rPr>
              <a:t>XFS on Linux</a:t>
            </a:r>
            <a:endParaRPr b="1" lang="en-US" sz="2400" spc="-1" strike="noStrike">
              <a:solidFill>
                <a:srgbClr val="44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37680" y="1461600"/>
            <a:ext cx="84740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rt to Linux began in 1999 against 2.3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pted into ma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5 kernel (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2.4 kernel (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LES9 and bey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XFS engineering is now based in SGI’s Melbourne, Australia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ordinate changes to Novell via John Hesterberg’s group in Eag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umber of contributors in th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8260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y (but not all) are ex-SGI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XFS Slides 01 - Backgrou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AA7B-CFA1-4B4B-8F5D-5CF79F46065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0:54:15Z</dcterms:created>
  <dc:creator>David Chatterton</dc:creator>
  <dc:description/>
  <dc:language>en-US</dc:language>
  <cp:lastModifiedBy>chatz</cp:lastModifiedBy>
  <dcterms:modified xsi:type="dcterms:W3CDTF">2006-10-30T19:33:32Z</dcterms:modified>
  <cp:revision>337</cp:revision>
  <dc:subject/>
  <dc:title>Possible CXFS Administration and Monitoring Interfaces</dc:title>
</cp:coreProperties>
</file>