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781C2-5CBC-48E0-8650-F5844214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2745-CC61-42A4-95D9-1BE5412F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2C4C9-0CE9-4C99-868C-8DC09B4B8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027A-3C34-4F70-A8FD-0DA30910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338F6-41D7-4850-BD33-4518B1A2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A15CB-4378-43D4-A129-3E9C0AB8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ECD58-6986-43A4-93E0-8022D23A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ADF78-82EC-4353-92D0-A1DE85F4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F01A5-C237-44BB-B8C8-763B28A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F7A26-59A0-4003-B41E-6ACDA9AD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370E-FE87-4A9B-8996-0653DB01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0FDD2-24FC-419A-942D-63304707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930CDA6-0948-4757-B439-3923B106AAC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3 - Monitor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IL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the AIL is moved for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succes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su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ushbuf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 locked – pushbuf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pinn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pi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locke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i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il was flu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restar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log write rest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ush_ail.flush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a log was for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69E8-D4B5-4406-9E54-56AABA65F28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Quota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laims_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isk quota reclaim mi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quot_du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dupl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mi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misses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hi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isk quota in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imes dqwant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ke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shaked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act_reclai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inactive data re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D645-5B59-454A-9BEE-C45A6BFE73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sta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misc/xfsstats.pl -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3709-76FD-4835-8FF9-E8FC80C3BEC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7341B-C37F-41B3-BB4E-A836E54C3D9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nito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Dave Wright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F7C9-B92B-41D2-80DC-FFE1C403F8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atch grep inode /proc/slab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ourier New"/>
              </a:rPr>
              <a:t>sar –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Courier New"/>
              </a:rPr>
              <a:t>TODO: Need to 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labtop -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25"/>
              </a:spcBef>
              <a:spcAft>
                <a:spcPts val="4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the sla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25"/>
              </a:spcBef>
              <a:spcAft>
                <a:spcPts val="4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22DC-8DEC-411F-8855-0360CBC945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Inod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emp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looks for ino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ound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 found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frecycl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fails because inode was 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misse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had to go to disk for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d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times missed but found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reclaim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recyled the inode’s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g_attrchng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changed inod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lush_cou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times inodes are being flu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c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inodes clu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cluster_flushinod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times not able to inode 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EA6E2-C649-4677-9312-1EBA03A45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Directory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 name directory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cre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y remo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etdent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den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17468-846F-42B0-8CB4-962E11C695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File Attribute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g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get” operation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se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se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remov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remove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tr.lis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“list”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3A35E-DEF1-4EFD-8117-929418BFCF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Allocation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alloc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extent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s.free_block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blocks f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lookup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llocation btree lookups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eee.compar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of compares in alloc btree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ins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insert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_btree.delrec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extent record deletes in 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E31F2-D025-4AD2-93F7-3058B5C5B84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Block Map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read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write_o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map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un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block delet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add_exli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insertions fo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del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look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_map.cmp_ex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extent list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look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btree look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comp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comp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ins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inser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ap_btree.delr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of block map dele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18E6-6EFB-4510-A899-06167E8166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PCP Journaling Metr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nsactions waiting to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asyn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async transactions wa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.emp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s that did not do any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wri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uffer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bloc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log blocks 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noiclo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entry attempt during memory fl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fs_log_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.force_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xs_log_force_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3 - Monitor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45B2-75CF-45D1-B541-C55EA15DAB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5:40Z</dcterms:modified>
  <cp:revision>343</cp:revision>
  <dc:subject/>
  <dc:title>Possible CXFS Administration and Monitoring Interfaces</dc:title>
</cp:coreProperties>
</file>