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224854"/>
        <c:axId val="2928969"/>
      </c:barChart>
      <c:catAx>
        <c:axId val="922248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28969"/>
        <c:crosses val="autoZero"/>
        <c:auto val="1"/>
        <c:lblAlgn val="ctr"/>
        <c:lblOffset val="100"/>
        <c:noMultiLvlLbl val="0"/>
      </c:catAx>
      <c:valAx>
        <c:axId val="29289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248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F462-DC28-4C47-BC82-3E6CD352B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2F59-F590-4DCE-9C8C-A6FEB6CD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EDE6-F0A2-4375-8D29-F168D3523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B712-1997-4AE5-8633-DDA0F5442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D2DC-5B58-4F46-A3F9-41823282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5F81-D855-48CD-843E-1ACF6FCD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5AE3-7000-4D03-B7F1-0CB73230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B971-9BA1-419B-81C4-C136670D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E201-4D51-4001-AE7F-4A924594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7366-22EA-4A54-B3A7-9B83B20D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5F5D-F141-414B-AA70-7C9A5C92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D919-EDFA-47F8-9244-2B45B3BA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E4D7D-218D-4EB6-96BA-BF6666819A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