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A71AC-9730-402B-9940-E2E2CD780C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6687D9-3C65-4E60-8EAF-4AE1258EAB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DBE70A3-FD98-410E-AB48-CA3AFD1B0F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2574D4-CCDA-49A0-B3AA-65224F1895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F7C1D59-3B00-4529-8ED0-05EFC9131FF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D1569C-0076-45DA-AD2A-1646F4F85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7F7E49-4E28-4224-89BC-88B2B48BE7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8B28E5-B14F-4F95-AC01-3C04A496E5D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E5D59B-154A-4EB1-9384-4E0302A37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05CE8D-35FD-4FE0-982D-C2EF1E4548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C1ACAD-3D66-4CFD-B53C-46BA19193D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95539C-E16B-4C5E-BD30-F946475809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FC5D71F-21FE-4F96-90DE-E7E8771E10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6F3DCD-2604-407B-8A3F-9BAC60BEBB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37E090-B908-4596-B153-FBF68383CC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458BE7B-B959-4C89-87B9-A754C36F9F8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0891AA-179E-426D-B7CB-2D2E58F65F5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EB42CD-653A-443C-A7DE-DA349AFE60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0F0025-2C12-4A01-A90C-386CE53E1E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C06CE-D3F0-448E-B392-1543E7A845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8FDDD7-B1F3-4B43-8F7E-B174CA0448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346E1-6D30-41FF-B252-F2BBB6AB11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4FEA65-86AA-4792-AC59-CBDC32E072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A2943F-2178-4CA5-A0F7-07A595B55C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AB030-DA44-40DD-970E-78CEC18E51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AAB441-F14D-47F2-9632-E846D44D076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1DDD97-A54E-4879-B920-E1F2906692E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B74CB01-8E0E-40AD-A7A3-ED299553F55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C5079-C0B8-41D8-9316-974490FA4268}"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55B5F-F3B4-42AF-85B5-5EB7D9076D42}"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89974B-5236-4FC8-B6BB-0F5D965A553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2302AF-CF21-4434-81D2-B95E66B9FA6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1B9F42-291E-41BA-BA01-2F3AC25C0C55}"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9E35A-B244-4A86-8633-FE98955FB6D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0D91-A3F9-47D5-A7AD-CC6C74C73F99}"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D57578-703E-494C-8C0D-E5A07C7A5A89}"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515555-1176-4E24-BBE2-5311DFD04EE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3108A-9255-4404-AF7B-F7F61CF5A5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E4D79-823E-46C5-AA15-18281CF62974}"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CBAAEA-CD57-4F40-93FD-19ACCA950F1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640E5-B057-4A8C-B397-A246B8E86706}"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4F970-17AF-42E1-87E8-2327E34D619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742E22-0391-42F2-AB0D-76CE609C0F96}"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E37F7-4D8A-4D1A-ADF6-5870AA14372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428E8-3A8D-4469-9172-CAF8339176AE}"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CE7A7-38D0-45E4-91FE-34172F921C4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438FF3-E8AC-4318-AD1E-70A34B8754FC}"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E21EC7-08AC-414E-ACB4-644E7635E525}"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C4CB1B-A6E2-4897-A975-9323DBCB43C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DCFEA6-19EC-464D-9CC3-34BB3D98E35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4C9A2-02C3-4CAB-9EB4-A49A84976348}"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C9304-D8B7-4179-AD3F-4BC64F716A13}"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A53CC1-73F5-46D6-8219-C58DDB907801}"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85533A6-BE2A-43D2-AAA4-D326D164466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AD4C95-2F37-4582-A1C9-C2F2EC89AF6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E98D08-D2B7-40CE-9C85-81F1B90991A6}"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93AD1A-9DCA-4BAF-848C-7B6A993D28D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EBAB6-30BC-419E-B41A-1CDEC3DB5626}"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A77FE5-6BE8-4E1B-8A29-9163DC569731}"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ADB624-8F2B-46EC-BB5A-08EBBE98B79E}"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0AAC25-0892-4FD1-8A94-E9C5B6EB196A}"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05109A-8C53-47AF-9AE3-34D975EFFFEB}"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4A5F8-6958-4BF0-8C6D-63570E65E9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9EE31-957C-404A-9F04-F67676D918F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14F233-F7DA-4AB7-BBEF-6C67BFE1E95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42BC5-87DD-4679-9A3D-49DEA78258B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9BC5E-A167-4EC4-9A4F-EF8C20F824EE}"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3FE40-64FB-473F-A01D-3FD5CDFFE34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9608F7-40F9-4318-8F6D-133A24DB424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AAAB7-1DEB-4A60-93FA-34781E1D6ABA}"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965B1-1404-4A7A-914F-9BBF61826AA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2E21E8-03F1-45F4-8BEB-E74B8C23B5C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E76EDF-BFDB-4DDC-81B7-2CBBC9FC041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CAEC6D-E923-43E8-9171-B8F48A108D0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84557C2-A96A-4868-9EB0-D947A21EBAEA}"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747044-2C27-4D4F-A67F-DCD283EF09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53EBAB-D640-400A-AB6D-D5758EFAA3A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CD65582-E5CB-4ADE-A5B3-AFC4A772A14D}"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BB438E-8DAD-4A6B-97EE-A0E71B321D45}"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1188D-0822-41E1-B487-9FB89CFD7850}"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709E-1139-44E9-A060-D1648CA37BC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F2553-2AF0-48D4-9C0A-2FF90C58EA9E}"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90CCE1-ECA9-45F7-8EA8-07A8B91D273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5F8AEC-AD1D-483E-BF74-E024C2F2EE9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2393F-3029-4E7D-A4B0-ABACFF89ED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94D00CB-7C8C-486A-9BFC-8544026F32F0}"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EBAC5-94AC-41E1-B7C6-045E46B193B1}"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43D84-0217-430C-B8DA-8E5321129E5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A2566-C475-422E-8A03-A79E83BC5469}"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BE0B70-754C-4BE2-B935-BBD60FF2956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AD0DD7-C1B8-4045-ACEE-99083467281A}"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9134B14-05C1-4CE1-82AC-750814403D3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0C6E54-8A4C-4059-A363-50D23466C7D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3D7DFA-F7FA-42C2-B030-B89342A695D6}"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263CC-F852-478C-A814-D787B38624C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9A3AF-F8AF-48E8-8092-4DA5F346D02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C864BD-35E1-447B-9D05-208CF185EBD1}"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35C559-7359-4119-A78B-69E4B57634A1}"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B005F-15C7-45FB-8C34-291481047A3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8EDF66-7F8A-4E93-B8C5-0DB7BAF849A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6AE3A7-7A63-4C91-AA4D-F7FB40B0774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D5B21C-33FD-4859-841D-A852E474C5BE}"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83A0D3-EF42-4D55-ADF4-D7A5A2AD06E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9FEDB2B-EEBC-45E9-82E9-A60BAE2752B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48F3F0-BFEB-49CF-A6BB-12B99BEC73A1}"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83D91-F7EC-40A4-9D5B-0DDCE79E8882}"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3DA82-7DE0-47A3-A0FF-20DBF3538DD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B503525-146C-4024-B45F-98839925DD6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729574-F041-45A1-8756-6F3017C2B4F8}"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AF8D53D-0856-4803-98BE-1BCAA2EC0A1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F27932-6732-4C68-8F16-FBE2EBF43D47}"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1EE0FD-6177-4FF1-9A7F-4123C48B2865}"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C83DBB-D4C3-4FF1-A1D7-2B409E889B5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70B09E-B3C7-424B-B9F4-7C2FE4A8BC44}"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FD00D-E042-4424-9DC4-757607E204F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712EA1-9A94-4524-B291-923D132E4728}"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08542-65B6-4332-8D2D-E737C91F29F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7475-D45E-4A8F-9A16-98656D4FF51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EE0CCF-489D-4659-8436-7B4901B7E4D0}"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ED6385-D403-4D4F-9905-CB0E42D6A4F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5DC951-F5D3-49F9-A017-1673D68D84F8}"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673940-F9F7-4A73-8DAD-406331774E4E}"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F0B00-AAF9-49A2-94DA-766FB7F755C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C39490-86CE-4321-AA2D-26410329B48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FAFD8C-7010-4CC5-B239-2982C79F4C5D}"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ADEC223-F13B-4F6F-903A-86E5D6BE4B1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44C44A-084F-4061-9070-71A6A452908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D06C93-30E0-4570-AB7F-ECE2164AD8A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E3DF4-FDFD-4747-B5B5-DF2C7549FAB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0D604C-0F73-4EE6-864C-6B2C7638AB3B}"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05CA6-E03D-4D52-8BC6-C61FDB42914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D73D9-A5FC-48BA-8543-2FFE844335B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9F51F-A9CD-4899-AA28-EA5882986D4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D8DF58-10FE-4814-814A-DAFD4EA99816}"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EBE6D8-BAB4-434A-8627-74591A2C3BF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9A46E-29A5-420E-A449-BF9FFE460BEA}"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97924-F787-4B47-B20B-54FD1116E2D1}"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86109A-98D9-4594-9655-11DFDBD93E0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01256-6E71-4713-A385-1E18E008A5FF}"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4A7DB-330B-4C7B-A65E-B495352EF11F}"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AAF2F5-D330-416D-AAE8-483FF23E29ED}"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23062C-F72D-4631-894B-0496AC45457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BBA11-FED1-47F0-AEF8-725BF3DACCA1}"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9C4D04-0DFE-40DE-9A08-489ED20523B4}"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71D93-6C37-4256-9965-067913E0CC45}"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E9716B-A723-4978-B639-0ECBD40269E9}"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A9A55-E87B-4B82-8700-C5BD2B055B10}"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2FBB2-4B8F-4004-BD1D-9D4C1BAAB52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9B801C-0399-436F-9155-6A1CF659C4C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F5F4CB-EFBE-43E8-BBC7-771FE5603AE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608B4E-C229-417C-887D-5B4EA57E3D1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88461-4563-41A2-982B-FF497FA006D7}"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7E45DC-47B7-4A30-99C8-8B31C6C34CD7}"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124688-7FD7-440C-847D-FABE32E16A8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A60FC0-9511-4489-83CB-B78AA525F27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1A60E2-42B1-404F-B9EC-22FE4E52A48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2274C-9D2A-4E51-9676-411CFD9A3FF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DBFC8-413B-4DBD-9675-393C7B04C91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3D087-94F9-4688-BAD5-CCA99B4568C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3A596-E2B0-4F82-862D-5AF13E033B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83FC7F-F55A-4100-8D28-EEB4D1F899B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1C78C-41E5-4B54-A629-F9DDF4280DC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FB005-918A-4EBC-B76F-D19D92C9C77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1CA32-D18A-41BB-8205-9D5C08D6388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B44E6A-ABC4-44A8-BDF2-92985F41DD0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4FA76-B79A-4DB6-B7D0-27F1F06C707C}"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34C010-B3BF-40FA-BFD1-8A132436F491}"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A4B88-2576-4E32-A521-8F4C7326CC65}"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06A5-8EE5-41CA-B2C9-48F49106546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85C44-CEB0-485A-ADE8-F689305A84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D09BE1-076E-4614-835C-158BB9D4260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0168E-EAC4-4E4D-8A70-A357F3EC850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46B95F-4772-4743-ABEE-BA2DEB12B9F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B09326-A2E6-489D-92A9-7B23C25D3126}"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E57875-998A-44D9-B493-757407E8BA9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E5306A-8125-4C3C-B904-D75E37C0BBD0}"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93AFE-079E-45EB-88D6-A52102E482F0}"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0AA57-0E82-4ABB-8E89-09DC6E1F9E6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7F38B-7C1D-4951-87E9-61AD4A00C55F}"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EAE121-B882-42CE-B135-7DE534E01F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D0AD22-BE83-436E-8E3F-C3CFB8468B6E}"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4D5FF-FC94-492E-B0B6-E8A8EF9497D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E50C95-8553-4EEF-8EAD-BDEAA629F2D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D35B40-0141-4CA6-BEEA-D61781C79C7F}"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BA1AF3-1A98-4FF0-81CB-3BEF6FC0699A}"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76BC7B-3730-4A75-9B53-3C73578D608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C0A821-D3DC-45BA-B791-1B574E39491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E587D9-6E03-4154-B0A3-71A180743078}"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26583-0BA6-4DE7-9718-491E4BE588E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16E04-7D8A-4AA2-AA7E-267FEF7B2802}"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01875-4CF8-4A90-ABE9-D8D24E35BE4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0C3F65-C1AC-410C-B92C-9A1309B7E50D}"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8965A8-2B5F-4714-9DF8-7D70680C24E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529082-EBD2-4C43-846C-A6D5158E709B}"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1DE00-1AF7-415C-9E2A-279B9D4A11B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BB1FFA-C188-4C9F-ADB1-9D9D4D0257BF}"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9BBA9-AD7E-48FB-B100-74F69DDF743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7A7D8D-01F5-4D25-A728-8A1BCBE783C8}"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77D414-1248-4A21-B38F-A071C48AAA1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14239-336B-4E45-8A21-1358E8AB3A8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3889B0-FBA8-4DA8-813F-57BA5A0DEB9C}"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8CDAD8-B9DD-4028-9571-89FC4C9EFA2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E50565-760A-4FDB-A453-0DED50627F54}"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37FD4-BDDA-4159-8B7F-31D553BD18A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F290B-1EB9-4801-91A6-2553AC8114C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7AB6F8-3723-4267-AF64-53462CFCADF5}"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468DB-4EB7-434E-95D4-6EC3324109F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5BE4F-3482-4140-8658-834FEB021444}"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EB2FC7-D6D2-42EE-8EB7-C74C9C939E0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6A594C-9E4F-4D89-A042-453038406369}"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93B99DD-BEB0-4D35-829F-D427A068FE17}"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C7B4BD-8704-49F8-9167-E8B699455B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97EB7-C14B-47EC-9F49-10655827F1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1B387-F6B3-47F8-8C8A-072309244DD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819B10-9D66-4336-A29A-338C7662E6D1}"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93AB2-7A19-4587-BF8C-ACC20253853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5AB68-8F4D-4BC7-9089-2F9F235B1902}"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32717-E2D9-4CAB-8719-5A93D7C33A8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409CA-0A9A-48D6-9887-2F01C369543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229EB1-CD11-4B07-B8ED-7C965A906D3A}"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E8D2B4-5F28-4FC2-B1DA-BB66DD83E28C}"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5BC5C6-6020-47D6-9FA4-514413850A55}"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64EE5-E37C-4B63-B444-F31301A97C48}"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6089E5-065A-4998-85F2-0AB19FC7FA0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6CFDA-7722-49FD-A1FC-DFAAD24C90F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1C6E1E1-E37C-475B-B520-3E21417C317C}"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5B5DD-5118-41F6-9D0D-0FD69AE60B28}"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113DC-2114-41BC-8442-88CF7758F7A8}"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637F3-C60F-49E8-B5C1-545BB63E053B}"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7B0F-4B10-4DDF-992B-DC7CCF7027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00EC24-CD03-4FBC-87C8-8209C0EEC36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EE1560-18E8-454F-B473-C0ABD910171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8C52C-9C24-4C2C-AD62-6D4D8E64F565}"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0CE92-1B81-4144-8A49-12776A16046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C83733-5146-47A8-A6AF-100B808884C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840F8-8C9B-436C-95BF-CBC68CF08CC3}"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3A6E7D-F4BB-40CE-A962-282C0F2EAF48}"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9EC3F4-8D0A-4BF6-B953-4E05E4AD7E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70991C-C3EF-4ADC-A354-9D5E217A0E91}"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